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696600" y="739440"/>
            <a:ext cx="534492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1579-C9EC-4017-B93E-F885D9F770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B8F4-05EF-4E5C-973A-9A6E363F80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696960" y="739800"/>
            <a:ext cx="5344920" cy="370044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793F-DA7C-4AE6-B7A2-BE5228BBA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852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852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B35B-561E-4550-91E0-62A7038D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8852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692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852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692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D894-42FF-44C7-AB46-E8331119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8852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316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178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852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0316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178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AFD8-3809-47AD-A0A5-E8B00308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8852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2876-7878-4F72-B3EB-437FFD6A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852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BCDD-C3DC-4F57-9078-2B1B8261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8852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692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1DA5-2F0C-45CD-98AF-FBA5DFA5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E9E6-0AA2-4A81-A40B-A29555C6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8355-7246-4897-A102-FC8CF393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692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852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1494-122F-467D-8E0B-583FCF80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692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692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FC10-C791-4F0A-8A7E-F630A163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692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852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39EA-C89D-4581-A334-180CABED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852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6804000"/>
            <a:ext cx="9906120" cy="698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-6480" y="3240"/>
            <a:ext cx="9906120" cy="698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594200" y="633708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1EBF-E252-4D00-BFEA-0CC927F0BF01}" type="slidenum"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j-platpat.inpit.go.jp/web/all/top/BTmTopPag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6"/>
          <p:cNvSpPr/>
          <p:nvPr/>
        </p:nvSpPr>
        <p:spPr>
          <a:xfrm>
            <a:off x="480960" y="692280"/>
            <a:ext cx="4165560" cy="1865160"/>
          </a:xfrm>
          <a:prstGeom prst="rect">
            <a:avLst/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○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授業で知的財産を取り扱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授業の中で知的財産の学習を導入する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授業中にパテントコンテストについて周知する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（応募することのメリット：「特に表彰された場合に意匠登録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願を経験できること、その経験から得られる知見、表彰され　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ること自体の名誉、意匠登録出願に伴う経費を負担しても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えた場合の経済的利益」を生徒の方々へ伝える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地元企業への見学や企業設計者との知財活用に関する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議を行う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-20520"/>
            <a:ext cx="9906120" cy="5698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3333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パテントコンテスト／デザインパテントコンテスト　学校取組事例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36"/>
          <p:cNvSpPr/>
          <p:nvPr/>
        </p:nvSpPr>
        <p:spPr>
          <a:xfrm>
            <a:off x="480960" y="2629080"/>
            <a:ext cx="4175280" cy="238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○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グループワークの実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班分けを行い、各班の中で生徒同士による活発な意見の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し合いを行い、知財への理解をより深める。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ブレインストーミング法（ＢＳ法）やＫＪ法を用いる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グループワークの途中で、教員と生徒が１対１で話し合う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会を設ける。その際、不十分な点をただ指摘するのでは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く、例えば「使う側の立場だったらどう思う？」といった問い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け等により、より発想を広げられるように促す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ブレインストーミング法：ある問題についてグループでアイデアを出し合い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　　　　　　　　　　　 発想の誘発を期待する手法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　　　　　　　 ＫＪ法：意見・アイデアをカードに記しグループ化し、論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　　　　　　　　　　　 理的に整序して問題解決の道筋を明らかにし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　　　　　　　　　　　 いく手法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36"/>
          <p:cNvSpPr/>
          <p:nvPr/>
        </p:nvSpPr>
        <p:spPr>
          <a:xfrm>
            <a:off x="4854600" y="5489640"/>
            <a:ext cx="4600440" cy="1052280"/>
          </a:xfrm>
          <a:prstGeom prst="rect">
            <a:avLst/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○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特許明細書の作成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授業中に実際の特許明細書を教材として扱い、知財を学ぶ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課題として特許明細書の作成・提出を課す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200160" y="620640"/>
            <a:ext cx="9505800" cy="6048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36"/>
          <p:cNvSpPr/>
          <p:nvPr/>
        </p:nvSpPr>
        <p:spPr>
          <a:xfrm>
            <a:off x="480960" y="5084640"/>
            <a:ext cx="4184640" cy="1498680"/>
          </a:xfrm>
          <a:prstGeom prst="rect">
            <a:avLst/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○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外部講師（弁理士等）を招いての講演会、勉強会、説明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知財やアイデア創出について、また、アイデアを発展させるア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ドバイス等について講演をいただく、生徒から出たアイデアに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対して助言をもらう、等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講師は、例えば、地元企業設計者、日本弁理士会（各支部含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む）、知的所有権センター等にお願いする。（あくまで一例で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す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36"/>
          <p:cNvSpPr/>
          <p:nvPr/>
        </p:nvSpPr>
        <p:spPr>
          <a:xfrm>
            <a:off x="4862520" y="692280"/>
            <a:ext cx="4608360" cy="1865160"/>
          </a:xfrm>
          <a:prstGeom prst="rect">
            <a:avLst/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○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校内パテントコンテスト、学科内パテントコンテストの開催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→優秀作品をパテントコンテストに応募する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参加生徒のすそ野を広げるため、参加対象者をあらかじめ決める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（例えば、１年生全員、全学科の生徒、学科内の全生徒、等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知財教育に対する教員の意識を上げるため、審査には担任も含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幅広い教員に参加していただく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外部講師の方を招き、指導・助言をもらう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開催は夏休み等を利用する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36"/>
          <p:cNvSpPr/>
          <p:nvPr/>
        </p:nvSpPr>
        <p:spPr>
          <a:xfrm>
            <a:off x="4854600" y="3397320"/>
            <a:ext cx="460836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○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教員同士による勉強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→教員の知財教育の意識をあげるための勉強会を開催する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6"/>
          <p:cNvSpPr/>
          <p:nvPr/>
        </p:nvSpPr>
        <p:spPr>
          <a:xfrm>
            <a:off x="4854600" y="4175280"/>
            <a:ext cx="4608360" cy="1185840"/>
          </a:xfrm>
          <a:prstGeom prst="rect">
            <a:avLst/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○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特許情報プラットフォーム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-Plat-Pa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）の活用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1"/>
              </a:rPr>
              <a:t>https://www.j-platpat.inpit.go.jp/web/all/top/BTmTopPag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→生徒に過去の受賞作品を調べてもらうことで、知財を学び、また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決して手の届かないコンテストではなく、学生達が勝負できる、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生向けのコンテストであることを実感してもらう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36"/>
          <p:cNvSpPr/>
          <p:nvPr/>
        </p:nvSpPr>
        <p:spPr>
          <a:xfrm>
            <a:off x="4862520" y="2654280"/>
            <a:ext cx="460836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○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図書館の環境整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→知財関連図書を複数導入し、目に付くように集約展示する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7T03:58:27Z</dcterms:created>
  <dc:creator>hama-t</dc:creator>
  <dc:description/>
  <dc:language>en-US</dc:language>
  <cp:lastModifiedBy>m</cp:lastModifiedBy>
  <cp:lastPrinted>2016-06-06T09:58:21Z</cp:lastPrinted>
  <dcterms:modified xsi:type="dcterms:W3CDTF">2017-07-13T01:31:40Z</dcterms:modified>
  <cp:revision>158</cp:revision>
  <dc:subject/>
  <dc:title>｢リサーチ・アドミニストレータを育成・確保するシステムの整備｣ イノベーション創出に向けたＵＲＡへの期待</dc:title>
</cp:coreProperties>
</file>