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579-97A8-410F-B7B4-98116B2F8D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B504-23C4-4624-AA51-3B48BA4A8D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E5B-55FE-4C8D-B242-B895E00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2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22-00BE-4665-B773-1033190D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FB3-2C26-47BC-BF63-6942FBDA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316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78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52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316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78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E4A-2358-4F48-9BC1-D6587DBC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AB6-46DA-40E9-934B-57EDA80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E4E-833D-462B-973A-8EE2CB00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4B8-835C-45BF-B57A-AE42F99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84B-9A01-442A-83E2-EE79051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25B-9102-4650-B466-5DB08CA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15C-8571-4019-BC63-8C49107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3F6-CEE7-4538-9126-0D4939F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AC4-2B92-49E2-8C3B-30A4811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804000"/>
            <a:ext cx="9906120" cy="69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6480" y="3240"/>
            <a:ext cx="9906120" cy="69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4200" y="63370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FC38-5890-4782-9E53-5FF0F4F4D5E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j-platpat.inpit.go.jp/web/all/top/BTmTopPag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492120" y="998640"/>
            <a:ext cx="4164120" cy="17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授業で知的財産を取り扱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の中で知的財産の学習を導入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中にパテントコンテストについて周知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（応募することのメリット：「特に表彰された場合に意匠登録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願を経験できること、その経験から得られる知見、表彰され　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ること自体の名誉、意匠登録出願に伴う経費を負担しても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えた場合の経済的利益」を生徒の方々へ伝える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-20520"/>
            <a:ext cx="9906120" cy="569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パテントコンテスト／デザインパテントコンテスト　学校取組事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480960" y="2852640"/>
            <a:ext cx="4175280" cy="18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グループワークの実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班分けを行い、各班の中で生徒同士による活発な意見の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し合いを行い、知財への理解をより深める。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ブレインストーミング法を用い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グループワークの途中で、教員と生徒が１対１で話し合う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会を設ける。その際、不十分な点をただ指摘するのではなく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例えば「使う側の立場だったらどう思う？」といった問いかけ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等により、より発想を広げられるように促す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4873680" y="5256360"/>
            <a:ext cx="4600440" cy="10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特許明細書の作成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中に実際の特許明細書を教材として扱い、知財を学ぶ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課題として特許明細書の作成・提出を課す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00160" y="765000"/>
            <a:ext cx="9505800" cy="5759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471600" y="4869000"/>
            <a:ext cx="4184640" cy="143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外部講師（弁理士）を招いての講演会、勉強会、説明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知財やアイデア創出について、また、アイデアを発展させる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ドバイス等について講演をいただく、生徒から出たアイデア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対して助言をもらう、等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講師は、例えば、日本弁理士会（各支部含む）、知的所有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センター等にお願いする。（あくまで一例です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>
            <a:off x="4881600" y="987480"/>
            <a:ext cx="4608360" cy="186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校内パテントコンテスト、学科内パテントコンテストの開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優秀作品をパテントコンテストに応募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参加生徒のすそ野を広げるため、参加対象者をあらかじめ決め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（例えば、１年生全員、全学科の生徒、学科内の全生徒、等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知財教育に対する教員の意識を上げるため、審査には担任も含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幅広い教員に参加していただく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外部講師の方を招き、指導・助言をもらう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開催は夏休み等を利用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4881600" y="3089160"/>
            <a:ext cx="4608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教員同士による勉強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教員の知財教育の意識をあげるための勉強会を開催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4873680" y="3898800"/>
            <a:ext cx="4608360" cy="118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特許情報プラットフォーム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Plat-P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の活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s://www.j-platpat.inpit.go.jp/web/all/top/BTmTopPag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生徒に過去の受賞作品を調べてもらうことで、知財を学び、また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決して手の届かないコンテストではなく、学生達が勝負できる、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生向けのコンテストであることを実感してもらう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3:58:27Z</dcterms:created>
  <dc:creator>hama-t</dc:creator>
  <dc:description/>
  <dc:language>en-US</dc:language>
  <cp:lastModifiedBy>SS09010091</cp:lastModifiedBy>
  <cp:lastPrinted>2016-06-06T09:58:21Z</cp:lastPrinted>
  <dcterms:modified xsi:type="dcterms:W3CDTF">2016-06-07T02:38:14Z</dcterms:modified>
  <cp:revision>152</cp:revision>
  <dc:subject/>
  <dc:title>｢リサーチ・アドミニストレータを育成・確保するシステムの整備｣ イノベーション創出に向けたＵＲＡへの期待</dc:title>
</cp:coreProperties>
</file>