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1600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move the slide</a:t>
            </a:r>
            <a:endParaRPr b="0" lang="en-US" sz="6400" spc="-1" strike="noStrike">
              <a:solidFill>
                <a:srgbClr val="0d0d0d"/>
              </a:solidFill>
              <a:latin typeface="Tw Cen MT Condensed"/>
            </a:endParaRPr>
          </a:p>
        </p:txBody>
      </p:sp>
      <p:sp>
        <p:nvSpPr>
          <p:cNvPr id="259"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260" name="PlaceHolder 5"/>
          <p:cNvSpPr>
            <a:spLocks noGrp="1"/>
          </p:cNvSpPr>
          <p:nvPr>
            <p:ph type="ftr" idx="20"/>
          </p:nvPr>
        </p:nvSpPr>
        <p:spPr>
          <a:xfrm>
            <a:off x="-360" y="9370800"/>
            <a:ext cx="2917800" cy="49356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16000" y="9370800"/>
            <a:ext cx="2917800" cy="49356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68FE8-D425-4F08-BA60-F72682A6AE38}" type="slidenum">
              <a:rPr b="0" lang="en-US" sz="1100" spc="-1" strike="noStrike">
                <a:solidFill>
                  <a:srgbClr val="000000"/>
                </a:solidFill>
                <a:latin typeface="Calibri"/>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BDA53-4E99-4123-B469-121CA04B7DC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Tw Cen MT"/>
            </a:endParaRPr>
          </a:p>
        </p:txBody>
      </p:sp>
      <p:sp>
        <p:nvSpPr>
          <p:cNvPr id="292" name="PlaceHolder 1"/>
          <p:cNvSpPr>
            <a:spLocks noGrp="1"/>
          </p:cNvSpPr>
          <p:nvPr>
            <p:ph type="sldImg"/>
          </p:nvPr>
        </p:nvSpPr>
        <p:spPr>
          <a:xfrm>
            <a:off x="858960" y="739800"/>
            <a:ext cx="5018040" cy="3699000"/>
          </a:xfrm>
          <a:prstGeom prst="rect">
            <a:avLst/>
          </a:prstGeom>
          <a:ln w="0">
            <a:noFill/>
          </a:ln>
        </p:spPr>
      </p:sp>
      <p:sp>
        <p:nvSpPr>
          <p:cNvPr id="2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D58E1-AA9F-416F-BF40-D1F11A925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8"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9"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4673C-EB2E-4D0E-A9D7-5EECB523B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1"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3"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4"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F2BD4-7C86-46E7-8014-517C66C93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6"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7"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8"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9"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0"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1"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218EB-316F-4A4D-8CE3-E9DA5BD18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9816F-E692-456F-B051-395EA0ED1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1"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84B5F-EFDC-4B00-BD85-C758313B6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3"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E72A9-2857-40F9-A6CF-B79D3A5AA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5"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C9BAC-E8AF-4194-9D3D-637FA3C06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D5EA5-2B55-417D-882A-519D2255A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67003-98D9-404B-BBB5-46CA448B2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DA3B2-2E8D-47F1-AB15-871A14F2C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7E5BF-DE72-408F-AFA0-8E85C9737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6"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94FE8-75F3-4FA8-A802-0F9E47DA5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8"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0"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A7EEA-A2E2-4225-9214-EB2DF4EDC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2"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3"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6D6C6-E115-4DE0-B4A7-523A22E47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8"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4CDF2-99E1-452A-B3DD-BEB63C514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80"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1"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2"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3"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4"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5"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0FAEC-B11B-4740-B8C6-2E88B9F4D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944B4-8E06-445C-8C2B-4B406030C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5"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A8E50-C98D-4F1C-A1AD-1A388A99F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7"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F2098-D4BC-4ADC-9D2E-3B914302B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B9F2A-DD53-4ADF-A60F-FB22970E1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CB64A-B533-428F-9D3E-8A7A399E2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5F94-333D-4934-B84F-01F9C2D8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627F1-8085-42DA-995A-752823D6E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BBFC0-529A-4E44-B2B6-A68640BF5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8"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E8A26-F36B-4951-8F23-4E3FB65AA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4"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8107D-9603-4A0B-B73A-161852353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6"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7"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D2BD4-7595-4B05-AA92-05AD36C5F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2"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ED3BB4-8F60-40A2-AC40-05CE68DB3D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24"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6"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7"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8"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9"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C1EF35-7CB9-4220-BD5F-85E535D397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40D14-5E50-4A88-9817-0D389347E4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6"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2CA43-64A0-43A9-940B-229EDEC80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8"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FAEBD-EFA3-404C-BC65-73834C1BC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A378-8096-4C45-8DE9-3CDACA74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4039A-977D-4F2F-B54C-913974904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990939-DA4A-4E8D-81D7-DD318F625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EAC0B-1E20-4D3F-828A-A543E255E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58D79-A710-4786-B21F-5C354DBAC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1"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F4190-027D-4F7D-AC6F-C39EEE825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3"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5"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DD3FB-ED03-4FA8-83A7-3D5FCAC2D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7"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8"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DD0297-C32B-424A-9AD5-8FDF2FC80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3"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D979C0-CC36-4475-9A67-5EEBBEF475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5"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7"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8"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9"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0"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BF33C-12C2-48F4-85E3-4CCC98DED5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510B38-8F73-4309-B182-2D324E682E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3330-46A6-4357-84B5-74B7B8AD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78"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D2AE6-1AE2-4C23-87A2-C29D99DDD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0"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ED1BA-5660-48AF-96A0-1DC783FD9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2"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3"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8C9260-D8A8-46DD-A5DB-276E842A3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CF5CA-CD39-44EE-9589-F4A614F5DD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195BA-55CD-4570-9E7F-AC15F5562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8"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9"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87B29-AD49-46AC-8CAC-D7092647A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FD8E8-1268-4C33-BAFE-D7A05E7BC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7"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42FE9-9D75-4F88-874D-FC767F78F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9"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0"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D6289-8A28-4926-9B37-72B0F732E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4"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84EC3-A1CA-49C3-8EF8-5B43AD8B6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DEFE2-05D0-4382-B595-ADF41F2A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7"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9"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0"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1"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2"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C23C34-2300-4974-8447-7F8A30295E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FD5A1-443B-4193-9327-1E615F9C80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0"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C5B874-7F86-4161-8E98-C7A2B22BB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2"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D8FEB-B324-43F0-8E80-558A3E2B4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A7E9F-CB8A-4C9E-AD50-CBAF75DC9C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02A7C6-CD5C-42E9-A28A-6AB60BFC5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A26FB-6F78-4AB8-B736-A1793131E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326D6-55AF-41C3-8EAB-2D17969D7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3"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5"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1027F-CD1E-4011-8048-043BFCF3D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8"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9"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F8F7A-3915-4506-BC82-7D46A63AC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9CE3-CD40-4163-9A99-BA99CC54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1"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2"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DA35E3-EA8C-460B-B5CF-FB3086F53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7"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9FE9DD-EE22-47A0-89D0-F21FD8BA8F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9"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0"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1"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2"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3"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4"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C93BAF-14B6-4645-9487-CC19D8B646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DE3B-41DF-49D2-A44D-44A8B11C7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6"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2280-5FF2-47E0-B3B0-A8E1B7A99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EC1F8-D078-48D1-93CA-D2CA43FFA562}"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
        <p:nvSpPr>
          <p:cNvPr id="5" name="Straight Connector 6"/>
          <p:cNvSpPr/>
          <p:nvPr/>
        </p:nvSpPr>
        <p:spPr>
          <a:xfrm flipV="1">
            <a:off x="855720" y="12139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13681080" cy="671976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46"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 name="PlaceHolder 3"/>
          <p:cNvSpPr>
            <a:spLocks noGrp="1"/>
          </p:cNvSpPr>
          <p:nvPr>
            <p:ph type="dt" idx="4"/>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FB564-AF46-48AD-9925-CCC5D5EEFACB}"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3681080" cy="671976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90"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1" name="PlaceHolder 3"/>
          <p:cNvSpPr>
            <a:spLocks noGrp="1"/>
          </p:cNvSpPr>
          <p:nvPr>
            <p:ph type="dt" idx="7"/>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B68B9-378E-4C87-ADBF-F3E7B7E3ED63}"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3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2" name="PlaceHolder 3"/>
          <p:cNvSpPr>
            <a:spLocks noGrp="1"/>
          </p:cNvSpPr>
          <p:nvPr>
            <p:ph type="dt" idx="10"/>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7FABD-BF90-44DD-A52C-08518ECDE453}"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9410760" y="77371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73"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4" name="PlaceHolder 3"/>
          <p:cNvSpPr>
            <a:spLocks noGrp="1"/>
          </p:cNvSpPr>
          <p:nvPr>
            <p:ph type="dt" idx="13"/>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09F70-BAD7-431C-8A6A-18BD0E51DE72}"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10774440" y="758880"/>
            <a:ext cx="102528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215"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6" name="PlaceHolder 3"/>
          <p:cNvSpPr>
            <a:spLocks noGrp="1"/>
          </p:cNvSpPr>
          <p:nvPr>
            <p:ph type="dt" idx="16"/>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97270-AABC-4590-A4B8-FD3D470D8089}"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3"/>
          <p:cNvSpPr/>
          <p:nvPr/>
        </p:nvSpPr>
        <p:spPr>
          <a:xfrm>
            <a:off x="1187280" y="216000"/>
            <a:ext cx="11449080" cy="804600"/>
          </a:xfrm>
          <a:prstGeom prst="rect">
            <a:avLst/>
          </a:prstGeom>
          <a:solidFill>
            <a:srgbClr val="ffffff"/>
          </a:solidFill>
          <a:ln w="57240">
            <a:solidFill>
              <a:srgbClr val="1482ac"/>
            </a:solidFill>
            <a:miter/>
          </a:ln>
          <a:effectLst>
            <a:outerShdw dist="38160" dir="16200000" blurRad="0" rotWithShape="0">
              <a:srgbClr val="000000">
                <a:alpha val="40000"/>
              </a:srgbClr>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メイリオ"/>
                <a:ea typeface="メイリオ"/>
              </a:rPr>
              <a:t>令和６年度　一関第一高等学校・附属中学校 教職員働き方改革アクションプラン</a:t>
            </a:r>
            <a:endParaRPr b="0" lang="en-US" sz="2000" spc="-1" strike="noStrike">
              <a:solidFill>
                <a:srgbClr val="000000"/>
              </a:solidFill>
              <a:latin typeface="Tw Cen MT"/>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2683c6"/>
                </a:solidFill>
                <a:latin typeface="メイリオ"/>
                <a:ea typeface="メイリオ"/>
              </a:rPr>
              <a:t>～ 岩手で、日本で、世界で活躍するリーダーの育成 ～</a:t>
            </a:r>
            <a:endParaRPr b="0" lang="en-US" sz="2400" spc="-1" strike="noStrike">
              <a:solidFill>
                <a:srgbClr val="000000"/>
              </a:solidFill>
              <a:latin typeface="Tw Cen MT"/>
            </a:endParaRPr>
          </a:p>
        </p:txBody>
      </p:sp>
      <p:sp>
        <p:nvSpPr>
          <p:cNvPr id="26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64" name="Rectangle 70"/>
          <p:cNvSpPr/>
          <p:nvPr/>
        </p:nvSpPr>
        <p:spPr>
          <a:xfrm>
            <a:off x="3691080" y="5970600"/>
            <a:ext cx="9725040" cy="11541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週１日以上（中学校は２日以上）の部活動休養日を徹底しながら、年間平均で週２日以上（年間１００日）の休養日を設定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部活動等において時間外勤務をした際には積極的に振替休日を取得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Ｉ</a:t>
            </a:r>
            <a:r>
              <a:rPr b="0" lang="en-US" sz="1200" spc="-1" strike="noStrike">
                <a:solidFill>
                  <a:srgbClr val="000000"/>
                </a:solidFill>
                <a:latin typeface="Arial"/>
                <a:ea typeface="メイリオ"/>
              </a:rPr>
              <a:t>C</a:t>
            </a:r>
            <a:r>
              <a:rPr b="0" lang="ja-JP" sz="1200" spc="-1" strike="noStrike">
                <a:solidFill>
                  <a:srgbClr val="000000"/>
                </a:solidFill>
                <a:latin typeface="Arial"/>
                <a:ea typeface="メイリオ"/>
              </a:rPr>
              <a:t>Ｔ機器の積極的な活用により、資料印刷を省略業務の効率化を進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生徒への指導や教材研究に注力できる環境を構築するため、 専門的な知識・経験を有する外部人材（ スクールソーシャルワーカー等）</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と連携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grpSp>
        <p:nvGrpSpPr>
          <p:cNvPr id="265" name="Rectangle 70"/>
          <p:cNvGrpSpPr/>
          <p:nvPr/>
        </p:nvGrpSpPr>
        <p:grpSpPr>
          <a:xfrm>
            <a:off x="7431120" y="2341440"/>
            <a:ext cx="6035760" cy="633600"/>
            <a:chOff x="7431120" y="2341440"/>
            <a:chExt cx="6035760" cy="633600"/>
          </a:xfrm>
        </p:grpSpPr>
        <p:pic>
          <p:nvPicPr>
            <p:cNvPr id="266" name="Rectangle 70" descr=""/>
            <p:cNvPicPr/>
            <p:nvPr/>
          </p:nvPicPr>
          <p:blipFill>
            <a:blip r:embed="rId1"/>
            <a:stretch/>
          </p:blipFill>
          <p:spPr>
            <a:xfrm>
              <a:off x="7431120" y="2341440"/>
              <a:ext cx="6035760" cy="633600"/>
            </a:xfrm>
            <a:prstGeom prst="rect">
              <a:avLst/>
            </a:prstGeom>
            <a:ln w="0">
              <a:noFill/>
            </a:ln>
          </p:spPr>
        </p:pic>
        <p:sp>
          <p:nvSpPr>
            <p:cNvPr id="267" name=""/>
            <p:cNvSpPr/>
            <p:nvPr/>
          </p:nvSpPr>
          <p:spPr>
            <a:xfrm>
              <a:off x="7459560" y="2400480"/>
              <a:ext cx="5921640" cy="38232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２　目標・目指す姿（令和６年度）</a:t>
              </a:r>
              <a:endParaRPr b="0" lang="en-US" sz="1800" spc="-1" strike="noStrike">
                <a:solidFill>
                  <a:srgbClr val="000000"/>
                </a:solidFill>
                <a:latin typeface="Tw Cen MT"/>
              </a:endParaRPr>
            </a:p>
          </p:txBody>
        </p:sp>
      </p:grpSp>
      <p:sp>
        <p:nvSpPr>
          <p:cNvPr id="268" name="Rectangle 70"/>
          <p:cNvSpPr/>
          <p:nvPr/>
        </p:nvSpPr>
        <p:spPr>
          <a:xfrm>
            <a:off x="379440" y="516564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３　具体的取組内容</a:t>
            </a:r>
            <a:endParaRPr b="0" lang="en-US" sz="1800" spc="-1" strike="noStrike">
              <a:solidFill>
                <a:srgbClr val="000000"/>
              </a:solidFill>
              <a:latin typeface="Tw Cen MT"/>
            </a:endParaRPr>
          </a:p>
        </p:txBody>
      </p:sp>
      <p:sp>
        <p:nvSpPr>
          <p:cNvPr id="269" name="テキスト ボックス 2"/>
          <p:cNvSpPr/>
          <p:nvPr/>
        </p:nvSpPr>
        <p:spPr>
          <a:xfrm>
            <a:off x="868320" y="1081080"/>
            <a:ext cx="1257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Tw Cen MT"/>
                <a:ea typeface="メイリオ"/>
              </a:rPr>
              <a:t>一関第一高等学校・附属中学校では、学校における働き方改革を推進し、生徒、保護者、地域などの期待に応える５つの「</a:t>
            </a:r>
            <a:r>
              <a:rPr b="0" lang="en-US" sz="1600" spc="-1" strike="noStrike">
                <a:solidFill>
                  <a:srgbClr val="2683c6"/>
                </a:solidFill>
                <a:latin typeface="Tw Cen MT"/>
                <a:ea typeface="メイリオ"/>
              </a:rPr>
              <a:t>Re</a:t>
            </a:r>
            <a:r>
              <a:rPr b="1" lang="ja-JP" sz="1600" spc="-1" strike="noStrike">
                <a:solidFill>
                  <a:srgbClr val="000000"/>
                </a:solidFill>
                <a:latin typeface="Tw Cen MT"/>
                <a:ea typeface="メイリオ"/>
              </a:rPr>
              <a:t>」を目指します。</a:t>
            </a:r>
            <a:endParaRPr b="0" lang="en-US" sz="1600" spc="-1" strike="noStrike">
              <a:solidFill>
                <a:srgbClr val="000000"/>
              </a:solidFill>
              <a:latin typeface="Tw Cen MT"/>
            </a:endParaRPr>
          </a:p>
        </p:txBody>
      </p:sp>
      <p:sp>
        <p:nvSpPr>
          <p:cNvPr id="270" name="Rectangle 70"/>
          <p:cNvSpPr/>
          <p:nvPr/>
        </p:nvSpPr>
        <p:spPr>
          <a:xfrm>
            <a:off x="385920" y="2760840"/>
            <a:ext cx="5922720" cy="21524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量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000000"/>
                </a:solidFill>
                <a:latin typeface="Arial"/>
                <a:ea typeface="メイリオ"/>
              </a:rPr>
              <a:t>　　令和３年度：０人、令和４年度：０人⇒令和５年度：０人</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性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意識</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教育に対する情熱、仕事に対する使命感が高く、校務に対しての負担感が少ないゆえに、家</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族の時間やプライベートの時間が少ない。</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管理職のマネジメント</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複数顧問の配置と部活動指導員及び外部コーチの招聘を積極的に推進し、教職員の負担軽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のための適切な部活動運営及び体制構築に取り組んでいる。</a:t>
            </a:r>
            <a:endParaRPr b="0" lang="en-US" sz="1000" spc="-1" strike="noStrike">
              <a:solidFill>
                <a:srgbClr val="000000"/>
              </a:solidFill>
              <a:latin typeface="Tw Cen MT"/>
            </a:endParaRPr>
          </a:p>
        </p:txBody>
      </p:sp>
      <p:sp>
        <p:nvSpPr>
          <p:cNvPr id="271" name="Rectangle 70"/>
          <p:cNvSpPr/>
          <p:nvPr/>
        </p:nvSpPr>
        <p:spPr>
          <a:xfrm>
            <a:off x="3681360" y="7140600"/>
            <a:ext cx="9721800" cy="69696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会議の簡素化や各校務分掌内の業務の見直しに取り組み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学校行事や業務のスクラップアンドリニューアルに取り組み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気兼ねなく年次有給休暇や振替等の取得ができる職場づくりを進め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72" name="Rectangle 70"/>
          <p:cNvSpPr/>
          <p:nvPr/>
        </p:nvSpPr>
        <p:spPr>
          <a:xfrm>
            <a:off x="374760" y="7080120"/>
            <a:ext cx="3313080" cy="77328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３業務の明確化・適正化の推進</a:t>
            </a:r>
            <a:endParaRPr b="0" lang="en-US" sz="1400" spc="-1" strike="noStrike">
              <a:solidFill>
                <a:srgbClr val="000000"/>
              </a:solidFill>
              <a:latin typeface="Tw Cen MT"/>
            </a:endParaRPr>
          </a:p>
        </p:txBody>
      </p:sp>
      <p:sp>
        <p:nvSpPr>
          <p:cNvPr id="273" name="Rectangle 70"/>
          <p:cNvSpPr/>
          <p:nvPr/>
        </p:nvSpPr>
        <p:spPr>
          <a:xfrm>
            <a:off x="371520" y="6000840"/>
            <a:ext cx="3301920" cy="11160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２</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学校における業務改善の推進</a:t>
            </a:r>
            <a:endParaRPr b="0" lang="en-US" sz="1400" spc="-1" strike="noStrike">
              <a:solidFill>
                <a:srgbClr val="000000"/>
              </a:solidFill>
              <a:latin typeface="Tw Cen MT"/>
            </a:endParaRPr>
          </a:p>
        </p:txBody>
      </p:sp>
      <p:sp>
        <p:nvSpPr>
          <p:cNvPr id="274" name="正方形/長方形 2"/>
          <p:cNvSpPr/>
          <p:nvPr/>
        </p:nvSpPr>
        <p:spPr>
          <a:xfrm>
            <a:off x="8175600" y="9599760"/>
            <a:ext cx="55054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ea typeface="ＭＳ Ｐゴシック"/>
              </a:rPr>
              <a:t>令和６年５月１日　一関第一高等学校・附属中学校長　三浦　立</a:t>
            </a:r>
            <a:endParaRPr b="0" lang="en-US" sz="1400" spc="-1" strike="noStrike">
              <a:solidFill>
                <a:srgbClr val="000000"/>
              </a:solidFill>
              <a:latin typeface="Tw Cen MT"/>
            </a:endParaRPr>
          </a:p>
        </p:txBody>
      </p:sp>
      <p:sp>
        <p:nvSpPr>
          <p:cNvPr id="275" name="角丸四角形 1"/>
          <p:cNvSpPr/>
          <p:nvPr/>
        </p:nvSpPr>
        <p:spPr>
          <a:xfrm>
            <a:off x="1141560" y="1380960"/>
            <a:ext cx="21715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volution</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改革し続ける学校</a:t>
            </a:r>
            <a:endParaRPr b="0" lang="en-US" sz="1600" spc="-1" strike="noStrike">
              <a:solidFill>
                <a:srgbClr val="000000"/>
              </a:solidFill>
              <a:latin typeface="Tw Cen MT"/>
            </a:endParaRPr>
          </a:p>
        </p:txBody>
      </p:sp>
      <p:sp>
        <p:nvSpPr>
          <p:cNvPr id="276" name="角丸四角形 21"/>
          <p:cNvSpPr/>
          <p:nvPr/>
        </p:nvSpPr>
        <p:spPr>
          <a:xfrm>
            <a:off x="3470400" y="1380960"/>
            <a:ext cx="21733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in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高いレベルの教育を</a:t>
            </a:r>
            <a:endParaRPr b="0" lang="en-US" sz="12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提供する学校</a:t>
            </a:r>
            <a:endParaRPr b="0" lang="en-US" sz="1200" spc="-1" strike="noStrike">
              <a:solidFill>
                <a:srgbClr val="000000"/>
              </a:solidFill>
              <a:latin typeface="Tw Cen MT"/>
            </a:endParaRPr>
          </a:p>
        </p:txBody>
      </p:sp>
      <p:sp>
        <p:nvSpPr>
          <p:cNvPr id="277" name="角丸四角形 22"/>
          <p:cNvSpPr/>
          <p:nvPr/>
        </p:nvSpPr>
        <p:spPr>
          <a:xfrm>
            <a:off x="5832360" y="1380960"/>
            <a:ext cx="2173320" cy="90972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l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周囲の意見を反映する学校</a:t>
            </a:r>
            <a:endParaRPr b="0" lang="en-US" sz="1200" spc="-1" strike="noStrike">
              <a:solidFill>
                <a:srgbClr val="000000"/>
              </a:solidFill>
              <a:latin typeface="Tw Cen MT"/>
            </a:endParaRPr>
          </a:p>
        </p:txBody>
      </p:sp>
      <p:sp>
        <p:nvSpPr>
          <p:cNvPr id="278" name="角丸四角形 23"/>
          <p:cNvSpPr/>
          <p:nvPr/>
        </p:nvSpPr>
        <p:spPr>
          <a:xfrm>
            <a:off x="8155080" y="1380960"/>
            <a:ext cx="2173320" cy="8924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ons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反応が早い学校</a:t>
            </a:r>
            <a:endParaRPr b="0" lang="en-US" sz="1600" spc="-1" strike="noStrike">
              <a:solidFill>
                <a:srgbClr val="000000"/>
              </a:solidFill>
              <a:latin typeface="Tw Cen MT"/>
            </a:endParaRPr>
          </a:p>
        </p:txBody>
      </p:sp>
      <p:sp>
        <p:nvSpPr>
          <p:cNvPr id="279" name="角丸四角形 24"/>
          <p:cNvSpPr/>
          <p:nvPr/>
        </p:nvSpPr>
        <p:spPr>
          <a:xfrm>
            <a:off x="10488600" y="1380960"/>
            <a:ext cx="2173320" cy="9050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Tw Cen MT"/>
                <a:ea typeface="メイリオ"/>
              </a:rPr>
              <a:t>尊敬し、尊敬される学校</a:t>
            </a:r>
            <a:endParaRPr b="0" lang="en-US" sz="1300" spc="-1" strike="noStrike">
              <a:solidFill>
                <a:srgbClr val="000000"/>
              </a:solidFill>
              <a:latin typeface="Tw Cen MT"/>
            </a:endParaRPr>
          </a:p>
        </p:txBody>
      </p:sp>
      <p:sp>
        <p:nvSpPr>
          <p:cNvPr id="280" name="右矢印 2"/>
          <p:cNvSpPr/>
          <p:nvPr/>
        </p:nvSpPr>
        <p:spPr>
          <a:xfrm>
            <a:off x="6419880" y="3332160"/>
            <a:ext cx="995400" cy="906480"/>
          </a:xfrm>
          <a:prstGeom prst="rightArrow">
            <a:avLst>
              <a:gd name="adj1" fmla="val 50000"/>
              <a:gd name="adj2" fmla="val 50085"/>
            </a:avLst>
          </a:prstGeom>
          <a:solidFill>
            <a:srgbClr val="2683c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81" name="Rectangle 70"/>
          <p:cNvSpPr/>
          <p:nvPr/>
        </p:nvSpPr>
        <p:spPr>
          <a:xfrm>
            <a:off x="372960" y="5559480"/>
            <a:ext cx="330516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１</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健康管理</a:t>
            </a:r>
            <a:endParaRPr b="0" lang="en-US" sz="1400" spc="-1" strike="noStrike">
              <a:solidFill>
                <a:srgbClr val="000000"/>
              </a:solidFill>
              <a:latin typeface="Tw Cen MT"/>
            </a:endParaRPr>
          </a:p>
        </p:txBody>
      </p:sp>
      <p:sp>
        <p:nvSpPr>
          <p:cNvPr id="282" name="Rectangle 70"/>
          <p:cNvSpPr/>
          <p:nvPr/>
        </p:nvSpPr>
        <p:spPr>
          <a:xfrm>
            <a:off x="3697200" y="5541840"/>
            <a:ext cx="9718920" cy="45108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勤務時間外、余暇時間は、家庭生活を充実させる時間、あるいは自分の自由な時間として活用し、ウェルビーイングを確保する。</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メンタルヘルスに関する相談等の情報を積極的に活用し、心身の不調の未然防止に努めます。</a:t>
            </a:r>
            <a:endParaRPr b="0" lang="en-US" sz="1200" spc="-1" strike="noStrike">
              <a:solidFill>
                <a:srgbClr val="000000"/>
              </a:solidFill>
              <a:latin typeface="Tw Cen MT"/>
            </a:endParaRPr>
          </a:p>
        </p:txBody>
      </p:sp>
      <p:sp>
        <p:nvSpPr>
          <p:cNvPr id="283" name="Rectangle 70"/>
          <p:cNvSpPr/>
          <p:nvPr/>
        </p:nvSpPr>
        <p:spPr>
          <a:xfrm>
            <a:off x="7467480" y="2805120"/>
            <a:ext cx="5913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Ｒ６年度目標</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4</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6</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８０時間以上の者</a:t>
            </a:r>
            <a:r>
              <a:rPr b="1" lang="ja-JP" sz="1000" spc="-1" strike="noStrike">
                <a:solidFill>
                  <a:srgbClr val="000000"/>
                </a:solidFill>
                <a:latin typeface="Arial"/>
                <a:ea typeface="メイリオ"/>
              </a:rPr>
              <a:t>　　令和６年度ゼロにする</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目指す姿</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で、日本で、世界で活躍するリーダーの育成」のために質の高い教育を持続的に提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授業準備や授業力向上に集中して取り組み、探究的な学習を推進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ワーク・ライフ・バランスを確保しながら、健康でいきいきとやりがいをもっ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生徒一人ひとりに向き合い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sp>
        <p:nvSpPr>
          <p:cNvPr id="284" name="Rectangle 70"/>
          <p:cNvSpPr/>
          <p:nvPr/>
        </p:nvSpPr>
        <p:spPr>
          <a:xfrm>
            <a:off x="365040" y="863928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４　アクションプランの周知方法</a:t>
            </a:r>
            <a:endParaRPr b="0" lang="en-US" sz="1800" spc="-1" strike="noStrike">
              <a:solidFill>
                <a:srgbClr val="000000"/>
              </a:solidFill>
              <a:latin typeface="Tw Cen MT"/>
            </a:endParaRPr>
          </a:p>
        </p:txBody>
      </p:sp>
      <p:sp>
        <p:nvSpPr>
          <p:cNvPr id="285" name="Rectangle 70"/>
          <p:cNvSpPr/>
          <p:nvPr/>
        </p:nvSpPr>
        <p:spPr>
          <a:xfrm>
            <a:off x="361800" y="9045720"/>
            <a:ext cx="13043160" cy="509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職員会議を通じて教職員に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プランを学校</a:t>
            </a:r>
            <a:r>
              <a:rPr b="0" lang="en-US" sz="1200" spc="-1" strike="noStrike">
                <a:solidFill>
                  <a:srgbClr val="000000"/>
                </a:solidFill>
                <a:latin typeface="Arial"/>
                <a:ea typeface="メイリオ"/>
              </a:rPr>
              <a:t>HP</a:t>
            </a:r>
            <a:r>
              <a:rPr b="0" lang="ja-JP" sz="1200" spc="-1" strike="noStrike">
                <a:solidFill>
                  <a:srgbClr val="000000"/>
                </a:solidFill>
                <a:latin typeface="Arial"/>
                <a:ea typeface="メイリオ"/>
              </a:rPr>
              <a:t>へ掲載し、地域・保護者にプラン内容を周知し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86" name="Rectangle 70"/>
          <p:cNvSpPr/>
          <p:nvPr/>
        </p:nvSpPr>
        <p:spPr>
          <a:xfrm>
            <a:off x="378000" y="7859880"/>
            <a:ext cx="3305160" cy="5508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４</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令和６年度重点取組事項</a:t>
            </a:r>
            <a:endParaRPr b="0" lang="en-US" sz="1400" spc="-1" strike="noStrike">
              <a:solidFill>
                <a:srgbClr val="000000"/>
              </a:solidFill>
              <a:latin typeface="Tw Cen MT"/>
            </a:endParaRPr>
          </a:p>
        </p:txBody>
      </p:sp>
      <p:sp>
        <p:nvSpPr>
          <p:cNvPr id="287" name="Rectangle 70"/>
          <p:cNvSpPr/>
          <p:nvPr/>
        </p:nvSpPr>
        <p:spPr>
          <a:xfrm>
            <a:off x="3684600" y="7853400"/>
            <a:ext cx="9731520" cy="5634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a:t>
            </a:r>
            <a:r>
              <a:rPr b="0" lang="ja-JP" sz="1200" spc="-1" strike="noStrike">
                <a:solidFill>
                  <a:srgbClr val="000000"/>
                </a:solidFill>
                <a:latin typeface="Arial"/>
                <a:ea typeface="メイリオ"/>
              </a:rPr>
              <a:t> 時間外在校等時間が月８０時間以上の者をゼロにできるよう、教職員への日々の働きかけを強化していく。</a:t>
            </a:r>
            <a:endParaRPr b="0" lang="en-US" sz="1200" spc="-1" strike="noStrike">
              <a:solidFill>
                <a:srgbClr val="000000"/>
              </a:solidFill>
              <a:latin typeface="Tw Cen MT"/>
            </a:endParaRPr>
          </a:p>
        </p:txBody>
      </p:sp>
      <p:grpSp>
        <p:nvGrpSpPr>
          <p:cNvPr id="288" name="Rectangle 70"/>
          <p:cNvGrpSpPr/>
          <p:nvPr/>
        </p:nvGrpSpPr>
        <p:grpSpPr>
          <a:xfrm>
            <a:off x="360360" y="2309760"/>
            <a:ext cx="6033960" cy="628560"/>
            <a:chOff x="360360" y="2309760"/>
            <a:chExt cx="6033960" cy="628560"/>
          </a:xfrm>
        </p:grpSpPr>
        <p:pic>
          <p:nvPicPr>
            <p:cNvPr id="289" name="Rectangle 70" descr=""/>
            <p:cNvPicPr/>
            <p:nvPr/>
          </p:nvPicPr>
          <p:blipFill>
            <a:blip r:embed="rId2"/>
            <a:stretch/>
          </p:blipFill>
          <p:spPr>
            <a:xfrm>
              <a:off x="360360" y="2309760"/>
              <a:ext cx="6033960" cy="628560"/>
            </a:xfrm>
            <a:prstGeom prst="rect">
              <a:avLst/>
            </a:prstGeom>
            <a:ln w="0">
              <a:noFill/>
            </a:ln>
          </p:spPr>
        </p:pic>
        <p:sp>
          <p:nvSpPr>
            <p:cNvPr id="290" name=""/>
            <p:cNvSpPr/>
            <p:nvPr/>
          </p:nvSpPr>
          <p:spPr>
            <a:xfrm>
              <a:off x="387360" y="2368440"/>
              <a:ext cx="5921280" cy="38268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2060"/>
                  </a:solidFill>
                  <a:latin typeface="HGS創英角ｺﾞｼｯｸUB"/>
                  <a:ea typeface="HGS創英角ｺﾞｼｯｸUB"/>
                </a:rPr>
                <a:t>１　現　状（令和５年度）</a:t>
              </a:r>
              <a:endParaRPr b="0" lang="en-US" sz="18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竿代　愛也</cp:lastModifiedBy>
  <cp:lastPrinted>2024-04-26T04:00:25Z</cp:lastPrinted>
  <dcterms:modified xsi:type="dcterms:W3CDTF">2024-04-26T04:43:34Z</dcterms:modified>
  <cp:revision>1059</cp:revision>
  <dc:subject/>
  <dc:title>スライド 1</dc:title>
</cp:coreProperties>
</file>