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1BF0-4182-4E5A-918D-AB303558C2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AD4C-A323-45A0-83E4-C62DE9CEB32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BB1-04B6-415D-B6FA-64D3AC09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5B7-D38B-4F3F-941C-47880D3C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F45-6982-4668-9004-BA15633E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0CD-B355-4EC1-A096-0F324AD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CBD-F0D2-4CDA-984F-A5220780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A6F-B1CF-4BEF-AF5F-9ABBAF2D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D91-440B-4287-9EA3-7459811D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F0B-06E3-4E4C-B5C9-C719651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072-5781-4B11-9103-68306854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C94-3784-4F55-B07D-4F80C87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E21-19A9-4E1F-B657-D90B871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37B-C3AD-4451-8DE8-D8A2C654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DAB5-BAF7-4FE6-8A90-D695A4EF9F8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花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やりがいと希望のもてる職場づくり 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教職員数が少ないため、一人あたりの担当業務の種類が多くなり、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多忙感につな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からの改善提言等に対して、できることから業務の軽減や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善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928000" y="9540720"/>
            <a:ext cx="49532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花泉高等学校長　橋本　ゆか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が前年度実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より減少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計画的取得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生徒への質の高い教育を持続的に提供し得る観点から働き方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　見直しが図られて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教職員一人一人が、やりがいを感じながら業務に取り組んで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共有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通信等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多忙化解消・健康管理・メンタル相談について積極的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時間外在校時間が１日２時間以内とすることを心がけるよう教職員に周知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各種業務について、一人に負担がかからないよう業務の見直し・軽減を進め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会議等について、紙資料配付の廃止や、時間の短縮など更なる効率化を図り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お知ら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休養日の徹底とともに、より効率的・効果的な部活動の実施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月の中間時点での時間外在校等時間について、教職員個々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伝達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総司</cp:lastModifiedBy>
  <cp:lastPrinted>2024-05-15T01:44:56Z</cp:lastPrinted>
  <dcterms:modified xsi:type="dcterms:W3CDTF">2024-05-15T01:44:57Z</dcterms:modified>
  <cp:revision>987</cp:revision>
  <dc:subject/>
  <dc:title>スライド 1</dc:title>
</cp:coreProperties>
</file>