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63ED-15A6-4BE1-BA12-EC5D9FA8AEC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3868-E813-4AC2-A3A7-F161B7272BD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07D-2456-4A34-A91F-A87E0674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992-B632-439F-9F44-AAC6C8BD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8F1-D348-4587-B4A2-4E261644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640-3A79-4A01-AC5B-D1899FD4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250-CE42-4698-B1C9-054AB54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350-9C80-49C2-9126-46FFB183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F45-E1F6-4644-B7B5-E6B31D94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079-3CF2-467C-961B-946B0B9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197-4A96-45E6-A20F-930E2F61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BAA-ED38-4021-86F5-9E2A048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EF2-6923-4D09-9A65-31A0158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D20-E6DE-49E8-9EEB-559D535D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379A-B4E5-4532-959B-B7F3FADAC3E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杜陵高等学校奥州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「熱意・誠意・創意」で明るく健康的な職場づくり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杜陵高等学校奥州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縮減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当校で推進する「計画的な年次取得」の取組が推進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時間外勤務が長時間化している教職員が固定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業務効率化を意識し、業務の精選と見直しを推進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3741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７日　杜陵高等学校長　三田正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時間外在校等時間を１日２時間以内とし、１カ月全体の平均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内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します。また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る教職員をゼロ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年次休暇の計画的取得を推進し、夏季休暇の取得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ライフワークバランスを意識してウェルビーイングを実現し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つつ職務に取り組む。一方で、本校の役割を自覚し自らの責務を果た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の目配り、気配りの行き届いた教育によって、生徒個々の能力を引き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、生徒が明るく学校生活を楽し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の勤務状況を把握して、個に応じて適切に対応することで、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好な職場環境を築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的にこまめな情報交換を行い、定例職員会議など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議が効率よく行われるよう時間短縮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が、軽減・廃止できる業務について、積極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資料のデータ配信を推進することにより、会議に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う準備業務の時間短縮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材データの共有化を推進することにより、業務の効率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時制と通信制に所属する教職員が協力する業務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独立する業務とを明確にして、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児童相談所、福祉施設など外部と連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して生徒を指導する体制を構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同窓会等の事務局業務について、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及び教職員が担う業務の適正化を図るよう、関係団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との協議を積極的に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保護者に理解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ただけるよう、必要に応じた情報提供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08920"/>
            <a:ext cx="11737800" cy="184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4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6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※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抜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持続的提供につなげる。〇教職員のウェルビーイングを確保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定量的目標　　県立学校の教員の時間外在校等時間の縮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４年度実績　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以上の延べ人数　県立学校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1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・令和５年度実績（第３四半期まで）　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0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以上の延べ人数　県立学校 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</a:t>
            </a:r>
            <a:r>
              <a:rPr b="1" lang="ja-JP" sz="10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含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。）が月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877160" y="8350200"/>
          <a:ext cx="4103640" cy="657360"/>
        </p:xfrm>
        <a:graphic>
          <a:graphicData uri="http://schemas.openxmlformats.org/drawingml/2006/table">
            <a:tbl>
              <a:tblPr/>
              <a:tblGrid>
                <a:gridCol w="1414440"/>
                <a:gridCol w="2689200"/>
              </a:tblGrid>
              <a:tr h="1544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4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６～８年度　前年度実績より減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080120" y="8085240"/>
            <a:ext cx="5615280" cy="225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段階的に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032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性敵目標　業務への充実感や、健康面での安心感の向上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 教職員のウェルビーイングの確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令和８年度において、アンケート調査に基づく肯定的実感が令和６年度の実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 結果から向上することを目指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縮減の取組を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に実施し、教職員の健康を確保し、ウェルビーイング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現を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診断の結果や普段の健康状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を把握し、配慮が必要な場合は積極的に対処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相互の理解と心遣いに基づいた風通しのよい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の文化を醸成し、メンタルヘルスを心掛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計画的な取得を推進し、教職員が生き生き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仕事ができる環境づく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224000" y="9288360"/>
            <a:ext cx="504036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山　純子</cp:lastModifiedBy>
  <cp:lastPrinted>2024-05-01T22:46:17Z</cp:lastPrinted>
  <dcterms:modified xsi:type="dcterms:W3CDTF">2024-05-01T22:50:17Z</dcterms:modified>
  <cp:revision>977</cp:revision>
  <dc:subject/>
  <dc:title>スライド 1</dc:title>
</cp:coreProperties>
</file>