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268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336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EF10-3D0B-406A-9183-B229F4CEC6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CFA-381B-47AF-9E1B-396644F866F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73000" y="74304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FBD-8F1C-4636-9C96-12A62322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5B2-7AAF-432F-8994-232B4FA0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DA4-34B3-40EB-92E8-6B15C46A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527-841F-424B-A792-2CF457EC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01D-8CBE-4D23-8F12-E2F71655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955-DDEA-4FD2-B7E2-D162390D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5F5-45A4-4065-8267-79D993BE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1AD-D50C-4032-958A-DE3D6055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EBA-84AF-4DC4-BCD3-3BD858F1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B66-BA99-42AD-943E-180C07FD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774-0B38-4F97-923E-502D75D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858-6E6B-4673-BFD2-9BBCEE4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48E-F3F7-4845-B415-685958E1EA8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６年度　岩手県立盛岡第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50"/>
                </a:solidFill>
                <a:latin typeface="HGS創英角ｺﾞｼｯｸUB"/>
                <a:ea typeface="HGS創英角ｺﾞｼｯｸUB"/>
              </a:rPr>
              <a:t>～「さわやか三高、ワーク・ライフ・バランスを意識した明るく健康的な職場づく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5840" y="1339920"/>
            <a:ext cx="566100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992160" y="4878360"/>
            <a:ext cx="11783880" cy="41436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431640" y="1030320"/>
            <a:ext cx="127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第三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915840" y="1666800"/>
            <a:ext cx="5661000" cy="3065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量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目標達成状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時間外在校等時間が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未満の者（延べ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（７月以降）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度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次休暇の取得状況（年間一人当たりの平均取得状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４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５年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9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定性的現状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部活動指導のため週休日の指導時間が過多となっている教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が固定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・週休日の大会が多いと引率時間のみで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になっ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424720" y="9593280"/>
            <a:ext cx="4886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６年５月１日　盛岡第三高等学校長　木村　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91360" y="1360440"/>
            <a:ext cx="5626080" cy="37296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576840" y="2263680"/>
            <a:ext cx="614520" cy="1650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13680" y="2028960"/>
            <a:ext cx="5603760" cy="1074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独自の目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教職員一人当たりの月平均時間外在校等時間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以内とすることを目指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本校勤務に満足している教職員の割合を伸ば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26280" y="3103560"/>
            <a:ext cx="5591160" cy="174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生徒達への質の高い教育を持続的に提供し得る観点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働き方の見直しが図られ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一人一人が、やりがいと感じながら業務に取り組ん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　教職員が、家庭のための時間やゆとりを持てる時間を確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できてい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981000" y="8537400"/>
            <a:ext cx="11806200" cy="387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アクションプランの周知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92160" y="8897760"/>
            <a:ext cx="11795040" cy="665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　プランを会議等を通じて教職員にも周知します。学校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掲載し外部へも周知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総会や学校運営協議会を通じて、地域・保護者に対してプランの内容の説明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2160" y="5302080"/>
          <a:ext cx="11795040" cy="3170520"/>
        </p:xfrm>
        <a:graphic>
          <a:graphicData uri="http://schemas.openxmlformats.org/drawingml/2006/table">
            <a:tbl>
              <a:tblPr/>
              <a:tblGrid>
                <a:gridCol w="816120"/>
                <a:gridCol w="2016000"/>
                <a:gridCol w="8962920"/>
              </a:tblGrid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教職員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健康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管理職が、振替や検診の受診について積極的に呼びかけを行い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月の時間外在校等時間が月途中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5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時間超となった教職員に声掛けし、健康確保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観点から、面談を行い、振替等の取得を促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２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学校におけ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改善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教職員、管理職ともに、一人一人が業務削減に関心を持ち、積極的に提案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RH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事業において、探究活動の視点を外へ向けることで教職員の負担を減ら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（３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業務の明確化・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適正化の推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働き方改革の取組について、保護者や地域の方に理解いただけるよ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TA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総会等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呼びかけを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休日の部活動においては、計画的に行うとともに指導の負担が偏らないようにし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a3a3e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0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令和６年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9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重点取組事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a3a3e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・　令和６年度から考査時の研修や会議を極力廃止し、年次取得率向上に取り組みま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3a3e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a3a3e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" name="テキスト ボックス 2"/>
          <p:cNvSpPr/>
          <p:nvPr/>
        </p:nvSpPr>
        <p:spPr>
          <a:xfrm>
            <a:off x="7157880" y="1751040"/>
            <a:ext cx="57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県の働き方改革プランの目標を前提に、以下の目標を設定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宮山　久美子</cp:lastModifiedBy>
  <cp:lastPrinted>2024-05-01T08:24:04Z</cp:lastPrinted>
  <dcterms:modified xsi:type="dcterms:W3CDTF">2024-05-01T08:24:45Z</dcterms:modified>
  <cp:revision>989</cp:revision>
  <dc:subject/>
  <dc:title>スライド 1</dc:title>
</cp:coreProperties>
</file>