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4024440" y="0"/>
            <a:ext cx="3078000" cy="5112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947880" y="766440"/>
            <a:ext cx="5208480" cy="3838680"/>
          </a:xfrm>
          <a:prstGeom prst="rect">
            <a:avLst/>
          </a:prstGeom>
          <a:noFill/>
          <a:ln w="9360">
            <a:solidFill>
              <a:srgbClr val="000000"/>
            </a:solidFill>
            <a:miter/>
          </a:ln>
        </p:spPr>
        <p:txBody>
          <a:bodyPr lIns="99000" rIns="99000" tIns="49320" bIns="493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709200" y="4860720"/>
            <a:ext cx="5684760" cy="4606920"/>
          </a:xfrm>
          <a:prstGeom prst="rect">
            <a:avLst/>
          </a:prstGeom>
          <a:noFill/>
          <a:ln w="0">
            <a:noFill/>
          </a:ln>
        </p:spPr>
        <p:txBody>
          <a:bodyPr lIns="99000" rIns="99000" tIns="49320" bIns="493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320" bIns="493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4024440" y="9721800"/>
            <a:ext cx="3078000" cy="511200"/>
          </a:xfrm>
          <a:prstGeom prst="rect">
            <a:avLst/>
          </a:prstGeom>
          <a:noFill/>
          <a:ln w="0">
            <a:noFill/>
          </a:ln>
        </p:spPr>
        <p:txBody>
          <a:bodyPr lIns="99000" rIns="99000" tIns="49320" bIns="493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2F520-DE5C-444A-94C8-AB44E346155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4024440" y="9721800"/>
            <a:ext cx="307800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1419F-85C0-4CCC-A168-6565E1281691}"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947880" y="766800"/>
            <a:ext cx="5208480" cy="3838680"/>
          </a:xfrm>
          <a:prstGeom prst="rect">
            <a:avLst/>
          </a:prstGeom>
          <a:ln w="0">
            <a:noFill/>
          </a:ln>
        </p:spPr>
      </p:sp>
      <p:sp>
        <p:nvSpPr>
          <p:cNvPr id="65" name="PlaceHolder 2"/>
          <p:cNvSpPr>
            <a:spLocks noGrp="1"/>
          </p:cNvSpPr>
          <p:nvPr>
            <p:ph type="body"/>
          </p:nvPr>
        </p:nvSpPr>
        <p:spPr>
          <a:xfrm>
            <a:off x="709200" y="4860720"/>
            <a:ext cx="568476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42413-C711-4D2B-9663-6FDB47CB1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29F66-3BC1-461A-A9E4-7E4CAB61E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4BEFE-4E59-4576-AAAA-B9C2D3F1A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8BB5D-2C11-400B-B6A8-6E1F0D26D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841BC-B721-4AEC-94A8-A345FD14A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86DAC-6996-454B-A7C8-F78E3E12B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5DFD3-7541-449D-B411-BE269872B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CBF60-8079-4AA0-8568-42A93C9D4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C958C-038D-4086-8065-FFB001A2D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CB99B-ABDC-4A9A-9BB8-7F449BAF2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C4607-2E80-484C-A611-49775D161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0FE64-42EB-4EE9-B446-CA2086405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CCE9-D5C4-4DB4-97D3-970B963913E6}"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岩手県立水沢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ＭＳ Ｐゴシック"/>
              </a:rPr>
              <a:t>水高版ｳｴﾙﾋﾞｰｲﾝｸﾞの実現に向けて</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水沢高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４年度：０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3.1</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3.7</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業務に対する熱心な取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平日の場合、定時退庁が難し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週末の部活指導時間が多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353440" y="953136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４月２３日　岩手県立水沢高等学校長　寒河江和広</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教職員一人当たりの平均時間外在校等時間を</a:t>
            </a:r>
            <a:r>
              <a:rPr b="0" lang="en-US" sz="1400" spc="-1" strike="noStrike">
                <a:solidFill>
                  <a:srgbClr val="000000"/>
                </a:solidFill>
                <a:latin typeface="Arial"/>
              </a:rPr>
              <a:t>80</a:t>
            </a:r>
            <a:r>
              <a:rPr b="0" lang="ja-JP" sz="1400" spc="-1" strike="noStrike">
                <a:solidFill>
                  <a:srgbClr val="000000"/>
                </a:solidFill>
                <a:latin typeface="Arial"/>
              </a:rPr>
              <a:t>時間以下とす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年次休暇の平均取得日数を</a:t>
            </a:r>
            <a:r>
              <a:rPr b="0" lang="en-US" sz="1400" spc="-1" strike="noStrike">
                <a:solidFill>
                  <a:srgbClr val="000000"/>
                </a:solidFill>
                <a:latin typeface="Arial"/>
              </a:rPr>
              <a:t>15</a:t>
            </a:r>
            <a:r>
              <a:rPr b="0" lang="ja-JP" sz="1400" spc="-1" strike="noStrike">
                <a:solidFill>
                  <a:srgbClr val="000000"/>
                </a:solidFill>
                <a:latin typeface="Arial"/>
              </a:rPr>
              <a:t>日以上にす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〇　必要な時に休める雰囲気を醸成す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〇　授業の準備に時間が取れるように、業務の平準化を目指す。</a:t>
            </a:r>
            <a:endParaRPr b="0" lang="en-US" sz="14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ワークライフバランスを意識した働き方を全教職員で意識し、仕事と私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生活を両立できていると感じられる職場とな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質の高い教育が実践でき、生徒、保護者、教職員の満足度の向上を</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目指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メンタルヘルスについて全体で取り組む職場となっている。</a:t>
            </a:r>
            <a:endParaRPr b="0" lang="en-US" sz="14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アクション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ＰＴＡの会議等を通じて、保護者に対してアクション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3078360"/>
        </p:xfrm>
        <a:graphic>
          <a:graphicData uri="http://schemas.openxmlformats.org/drawingml/2006/table">
            <a:tbl>
              <a:tblPr/>
              <a:tblGrid>
                <a:gridCol w="815760"/>
                <a:gridCol w="2016360"/>
                <a:gridCol w="8962920"/>
              </a:tblGrid>
              <a:tr h="914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管理職が、メンタルヘルス対策について周知、呼びかけを行う。</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時間外在校等時間が８０時間以下となるよう、毎日の勤務時間に気を配り業務改善について相談に</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応じ、必要に応じて助言を行う。</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8222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すべての業務においてＩＣＴ化を進める。（紙によるアンケートの廃止、デジタル採点の導入、保護者　</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宛て文書のペーパーレス化など）</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授業における一人一台端末の活用を促進する。（課題の提示、回収）</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部活動における休養日の完全実施に取り組む。</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本来学校が行うべき業務の明確化を行い、その業務を保護者に対して周知し理解いただく。</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週２回の定時退庁の実施。</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全ての教職員において、年次休暇等の平均取得日数が増加する。</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切田　壮</cp:lastModifiedBy>
  <cp:lastPrinted>2024-04-24T01:22:13Z</cp:lastPrinted>
  <dcterms:modified xsi:type="dcterms:W3CDTF">2024-04-24T01:22:18Z</dcterms:modified>
  <cp:revision>985</cp:revision>
  <dc:subject/>
  <dc:title>スライド 1</dc:title>
</cp:coreProperties>
</file>