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FC27-FCF7-49F6-B48B-6555AB4A8FE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C8C2-7B25-4558-A8F6-70B52147274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B336E-E869-4B98-A9CA-6FA3B4F4E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80309-B37A-4DE0-A7A1-9F59EFEC6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92EAD-7F9E-411D-A58C-A9107B002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64FF3-9B96-4A0E-A170-FFF08E285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CFADF-3962-4180-9993-7B63E884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F4B6-BC61-4636-96A8-C67DABCA3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60CCA-6291-4283-8297-16ECDC07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F9B4E-0604-4516-9D2A-EF85D1EB7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3596-8972-48AC-847B-22EADBED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21091-9048-4724-944D-77DB4C2E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4002-4FD4-434F-A195-A645D9301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A07C8-1030-4B61-8784-C239C1D78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9A95-6565-4D85-AA08-EFCC91551CE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前沢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前沢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4.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6.1</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週末の大会引率等の振替取得が難し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７日　前沢高等学校長　佐藤文子</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45</a:t>
            </a:r>
            <a:r>
              <a:rPr b="0" lang="ja-JP" sz="1400" spc="-1" strike="noStrike">
                <a:solidFill>
                  <a:srgbClr val="000000"/>
                </a:solidFill>
                <a:latin typeface="Arial"/>
              </a:rPr>
              <a:t>時間とすること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目指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7</a:t>
            </a:r>
            <a:r>
              <a:rPr b="0" lang="ja-JP" sz="1400" spc="-1" strike="noStrike">
                <a:solidFill>
                  <a:srgbClr val="000000"/>
                </a:solidFill>
                <a:latin typeface="Arial"/>
              </a:rPr>
              <a:t>日以上にしま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質の高い教育を持続的提供のため、授業準備の時間を十分に確保</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一人一人が、働きがいを感じながら業務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家庭のための時間や自由時間を確保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が、健康でいきいきと業務をおこなっ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a:t>
            </a:r>
            <a:r>
              <a:rPr b="0" lang="ja-JP" sz="1600" spc="-1" strike="noStrike">
                <a:solidFill>
                  <a:srgbClr val="000000"/>
                </a:solidFill>
                <a:latin typeface="Arial"/>
              </a:rPr>
              <a:t>アクションプランを学校の</a:t>
            </a:r>
            <a:r>
              <a:rPr b="0" lang="en-US" sz="1600" spc="-1" strike="noStrike">
                <a:solidFill>
                  <a:srgbClr val="000000"/>
                </a:solidFill>
                <a:latin typeface="Arial"/>
              </a:rPr>
              <a:t>HP</a:t>
            </a:r>
            <a:r>
              <a:rPr b="0" lang="ja-JP" sz="1600" spc="-1" strike="noStrike">
                <a:solidFill>
                  <a:srgbClr val="000000"/>
                </a:solidFill>
                <a:latin typeface="Arial"/>
              </a:rPr>
              <a:t>に掲載し、地域・保護者に働き方改革の理解醸成を促進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　会議等を通じて教職員にも周知する。</a:t>
            </a:r>
            <a:endParaRPr b="0" lang="en-US" sz="16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メンタルヘルス対策について呼びかけ等の取組を行う。</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休日の部活動従事日が月途中で３日超となった教職員に声掛けし、健康確保の観点から、計画的な</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休暇取得等を促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各業務において、ＩＣＴの積極的な活用を進める。（ペーパーレス化等）</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職員定数減による負担増加にならないよう、業務内容の精査を進め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働き方改革の取組について、保護者や地域の方に理解いただけるよう情報発信をする。</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課外や部活動等については、外部人材を積極的に活用す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ノー残業デーの実施。</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全教職員が年次休暇等の取得日数を増加させる。</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文子</cp:lastModifiedBy>
  <cp:lastPrinted>2024-05-02T06:05:58Z</cp:lastPrinted>
  <dcterms:modified xsi:type="dcterms:W3CDTF">2024-05-07T04:35:33Z</dcterms:modified>
  <cp:revision>983</cp:revision>
  <dc:subject/>
  <dc:title>スライド 1</dc:title>
</cp:coreProperties>
</file>