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8000"/>
            <a:ext cx="5021280" cy="370188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25E72-424C-420F-B20B-498C62631F5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90BB9-F4BC-489B-A23F-F72FEE234E5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7160" y="738360"/>
            <a:ext cx="5021280" cy="3701880"/>
          </a:xfrm>
          <a:prstGeom prst="rect">
            <a:avLst/>
          </a:prstGeom>
          <a:ln w="0">
            <a:noFill/>
          </a:ln>
        </p:spPr>
      </p:sp>
      <p:sp>
        <p:nvSpPr>
          <p:cNvPr id="65"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B1640-0CC6-4BD1-82B5-9AF063B44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9E4D5-16AD-4A37-B95D-E1FEAA754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A702E-561D-423C-BB01-6481CDD5D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49BA8-F24D-451C-886C-E217D4302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D2035-6BD1-4FBB-9612-B76901F2A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7075C-FB51-4E97-8FCB-C6CB6F16A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1ABD5-DB08-4E4C-B843-487227155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599B4-723F-448A-88A1-0A693E0E7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74483-2EF0-49A6-84E2-243AD5BDC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204EA-83AD-4939-AA0F-111CD51A9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E581E-0906-42F6-B96F-9113EA8B4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A6B6F-629C-4264-9472-DCB235F11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C067-4D3B-4BBD-810C-FA639C429E71}"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花巻農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生徒の幸福は教職員全体の幸福からＲ６～</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花巻農業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１人、</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2.9</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4.1</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4.7</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当校で推進する</a:t>
            </a:r>
            <a:r>
              <a:rPr b="0" lang="en-US" sz="1400" spc="-1" strike="noStrike">
                <a:solidFill>
                  <a:srgbClr val="000000"/>
                </a:solidFill>
                <a:latin typeface="Arial"/>
              </a:rPr>
              <a:t>ICT</a:t>
            </a:r>
            <a:r>
              <a:rPr b="0" lang="ja-JP" sz="1400" spc="-1" strike="noStrike">
                <a:solidFill>
                  <a:srgbClr val="000000"/>
                </a:solidFill>
                <a:latin typeface="Arial"/>
              </a:rPr>
              <a:t>・省力化の取組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0</a:t>
            </a:r>
            <a:r>
              <a:rPr b="0" lang="ja-JP" sz="1100" spc="-1" strike="noStrike">
                <a:solidFill>
                  <a:srgbClr val="000000"/>
                </a:solidFill>
                <a:latin typeface="Arial"/>
              </a:rPr>
              <a:t>日　花巻農業高等学校長　沼澤　信典</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0256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30</a:t>
            </a:r>
            <a:r>
              <a:rPr b="0" lang="ja-JP" sz="1600" spc="-1" strike="noStrike">
                <a:solidFill>
                  <a:srgbClr val="000000"/>
                </a:solidFill>
                <a:latin typeface="Arial"/>
              </a:rPr>
              <a:t>時間以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4</a:t>
            </a:r>
            <a:r>
              <a:rPr b="0" lang="ja-JP" sz="1600" spc="-1" strike="noStrike">
                <a:solidFill>
                  <a:srgbClr val="000000"/>
                </a:solidFill>
                <a:latin typeface="Arial"/>
              </a:rPr>
              <a:t>日以上にします。</a:t>
            </a:r>
            <a:endParaRPr b="0" lang="en-US" sz="1600" spc="-1" strike="noStrike">
              <a:solidFill>
                <a:srgbClr val="000000"/>
              </a:solidFill>
              <a:latin typeface="Arial"/>
            </a:endParaRPr>
          </a:p>
        </p:txBody>
      </p:sp>
      <p:sp>
        <p:nvSpPr>
          <p:cNvPr id="58" name="Rectangle 70"/>
          <p:cNvSpPr/>
          <p:nvPr/>
        </p:nvSpPr>
        <p:spPr>
          <a:xfrm>
            <a:off x="7215120" y="3224160"/>
            <a:ext cx="5591160" cy="1636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充実していると感じながら業務に取り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54568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各種会議（ＰＴＡ，学校運営協議会他）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3170160"/>
        </p:xfrm>
        <a:graphic>
          <a:graphicData uri="http://schemas.openxmlformats.org/drawingml/2006/table">
            <a:tbl>
              <a:tblPr/>
              <a:tblGrid>
                <a:gridCol w="815760"/>
                <a:gridCol w="2016360"/>
                <a:gridCol w="8962920"/>
              </a:tblGrid>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休暇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a:t>
                      </a:r>
                      <a:r>
                        <a:rPr b="0" lang="en-US" sz="1800" spc="-1" strike="noStrike">
                          <a:solidFill>
                            <a:srgbClr val="000000"/>
                          </a:solidFill>
                          <a:latin typeface="ＭＳ Ｐゴシック"/>
                        </a:rPr>
                        <a:t>40</a:t>
                      </a:r>
                      <a:r>
                        <a:rPr b="0" lang="ja-JP" sz="1800" spc="-1" strike="noStrike">
                          <a:solidFill>
                            <a:srgbClr val="000000"/>
                          </a:solidFill>
                          <a:latin typeface="ＭＳ Ｐゴシック"/>
                        </a:rPr>
                        <a:t>時間超となった教職員に声掛けし、健康確保の観点から、面談及び医療機関の受診を進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Arial"/>
                        </a:rPr>
                        <a:t>年次休暇を取得しやすい環境づくりに向け、定期考査期間の研修会や会議の実施について検討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資料については紙での配付を廃止し、ホームページやメールでの配付・周知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周知を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については、顧問間で調整し、休めるような環境づくりを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外部機関の積極的活用（教育センター等）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章浩</cp:lastModifiedBy>
  <cp:lastPrinted>2024-05-17T02:55:13Z</cp:lastPrinted>
  <dcterms:modified xsi:type="dcterms:W3CDTF">2024-05-17T08:38:55Z</dcterms:modified>
  <cp:revision>983</cp:revision>
  <dc:subject/>
  <dc:title>スライド 1</dc:title>
</cp:coreProperties>
</file>