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2E26-76CD-4337-8B6E-40672861C3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E660-7589-4619-9C67-9E5D9EB060F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77F-ADFD-4A66-B35F-7E4648AD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A75-E506-408F-A549-82A71FBE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167-D894-4F1F-8E49-2C42FA3D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30D-C11F-403E-AB5C-93E2021B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8DC-18D7-402A-92BB-4436AD42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531-F552-4A27-B59A-0CED50B8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B9C-C2A1-44FE-9B6E-41E55F5F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18A-E432-4256-9017-951787C6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845-14CC-4403-BCC3-46A1475A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AFD-65DB-4A84-8758-4F50DEB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C14-7D8A-4A85-AFCC-6AEADEC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220-C9D6-47D0-94D3-91351BC2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3283-D58F-4E59-A780-B6824F61FDF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黒沢尻北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～「持続可能な働き方目標（ＳＷＳＧｓ）の設定と実践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63760"/>
            <a:ext cx="5473440" cy="331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2400" y="5046840"/>
            <a:ext cx="11783880" cy="414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468360" y="1117440"/>
            <a:ext cx="127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黒沢尻北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473440" cy="3079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年度～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年度：１４．５日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年度：１４．４日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年度：１４．６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ＩＣＴ機器の利活用が進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仕事量の削減、いわゆる「スクラップ」は容易では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教職員のワークショップの実施などを通じて、業務改善の取組を進め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9001080" y="9524880"/>
            <a:ext cx="4952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令和６年５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　黒沢尻北高等学校長　金濱千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165400"/>
            <a:ext cx="5603760" cy="1239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平均時間外在校等時間を３８時間と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５日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15120" y="3433680"/>
            <a:ext cx="5591160" cy="1427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一人一人が、やりがいを感じながら業務に前向きに取り組むことで、質の高い教育を持続的に提供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のウェルビーイングを確保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11240" y="847404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1022400" y="8861400"/>
            <a:ext cx="1179504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会議等を通じて教職員に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2400" y="5448240"/>
          <a:ext cx="11795040" cy="29257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913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管理職が、休暇取得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勤務時間外在校状況により、該当教職員に声掛けし、健康確保の観点から面談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業務改善のための話し合いを持ち、職員の発案による業務改善を推進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ＩＣＴ機器の積極的な活用により、調査や成績処理等業務の効率化を図り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行事の見直し等で業務負担の集中を軽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部活動については、外部人材の活用により、教員の負担を軽減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令和６年度から行事の見直し等の負担軽減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高橋　直樹</cp:lastModifiedBy>
  <cp:lastPrinted>2024-05-16T02:11:47Z</cp:lastPrinted>
  <dcterms:modified xsi:type="dcterms:W3CDTF">2024-05-16T02:16:50Z</dcterms:modified>
  <cp:revision>981</cp:revision>
  <dc:subject/>
  <dc:title>スライド 1</dc:title>
</cp:coreProperties>
</file>