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4C76-0B06-4179-9C57-512F78E2CF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149D-5C65-47B4-962F-A77DCEF1B42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1AA4A-EED9-4819-AA74-CA7B56E7B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5B3E-9115-4508-BE14-25EC215B4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15442-D5D0-4C54-BBE2-83A1E8BBB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6E01-B77A-41B7-9C84-B86FE7541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FA442-1FA6-4201-8456-63322388E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E5712-68B1-4AC5-B0CF-E0818DD15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D3B09-7151-4347-9758-7293075D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C530B-DB03-43E0-94C8-BDF236D0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CFB7-AB1F-4A3E-BFCE-1F5A3745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30E6-49B8-493F-9086-86F74C94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693A-F8E0-4696-8ED1-4B6E41D0F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03CE-B2C2-44FB-A245-2CC363A40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CA93-7895-4D02-9F3E-44A4DF77CA4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760320" y="334800"/>
            <a:ext cx="12344400" cy="5320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桜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403200" y="597060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760320" y="1236600"/>
            <a:ext cx="5513400" cy="35568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771480" y="4832280"/>
            <a:ext cx="12344400" cy="432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49400" y="88416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桜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760320" y="1579680"/>
            <a:ext cx="5513400" cy="32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総合校舎・工業校舎ともに０人、</a:t>
            </a:r>
            <a:r>
              <a:rPr b="0" lang="en-US" sz="1400" spc="-1" strike="noStrike">
                <a:solidFill>
                  <a:srgbClr val="000000"/>
                </a:solidFill>
                <a:latin typeface="Arial"/>
              </a:rPr>
              <a:t>R</a:t>
            </a:r>
            <a:r>
              <a:rPr b="0" lang="ja-JP" sz="1400" spc="-1" strike="noStrike">
                <a:solidFill>
                  <a:srgbClr val="000000"/>
                </a:solidFill>
                <a:latin typeface="Arial"/>
              </a:rPr>
              <a:t>４年度：総合校舎・工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校舎ともに０人、</a:t>
            </a:r>
            <a:r>
              <a:rPr b="0" lang="en-US" sz="1400" spc="-1" strike="noStrike">
                <a:solidFill>
                  <a:srgbClr val="000000"/>
                </a:solidFill>
                <a:latin typeface="Arial"/>
              </a:rPr>
              <a:t>R</a:t>
            </a:r>
            <a:r>
              <a:rPr b="0" lang="ja-JP" sz="1400" spc="-1" strike="noStrike">
                <a:solidFill>
                  <a:srgbClr val="000000"/>
                </a:solidFill>
                <a:latin typeface="Arial"/>
              </a:rPr>
              <a:t>５年度：総合校舎・工業校舎ともに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会計年度任用職員の配置（工業校舎のみ）により、会計業務の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担は軽減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両校舎間の交流が限定的であることから、学校行事等を通して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徒同士の一体感の醸成に課題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統合による新設校ということで、これまでの両校舎の特徴を生か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つつ、業務の見直しや会議等の効率化を図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09200" y="94870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　日　北桜高等学　校長　高　橋　幸　美</a:t>
            </a:r>
            <a:endParaRPr b="0" lang="en-US" sz="1100" spc="-1" strike="noStrike">
              <a:solidFill>
                <a:srgbClr val="000000"/>
              </a:solidFill>
              <a:latin typeface="Arial"/>
            </a:endParaRPr>
          </a:p>
        </p:txBody>
      </p:sp>
      <p:sp>
        <p:nvSpPr>
          <p:cNvPr id="55" name="Rectangle 70"/>
          <p:cNvSpPr/>
          <p:nvPr/>
        </p:nvSpPr>
        <p:spPr>
          <a:xfrm>
            <a:off x="6696000" y="1212840"/>
            <a:ext cx="6373800" cy="3906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273720" y="2043000"/>
            <a:ext cx="49536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769080" y="1901880"/>
            <a:ext cx="6373800" cy="141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時間外在校等時間が月</a:t>
            </a:r>
            <a:r>
              <a:rPr b="0" lang="en-US" sz="1500" spc="-1" strike="noStrike">
                <a:solidFill>
                  <a:srgbClr val="000000"/>
                </a:solidFill>
                <a:latin typeface="Arial"/>
              </a:rPr>
              <a:t>80</a:t>
            </a:r>
            <a:r>
              <a:rPr b="0" lang="ja-JP" sz="1500" spc="-1" strike="noStrike">
                <a:solidFill>
                  <a:srgbClr val="000000"/>
                </a:solidFill>
                <a:latin typeface="Arial"/>
              </a:rPr>
              <a:t>時間以上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教職員一人当たりの平均時間外在校等時間（週休日等の部活動指導従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時間を含む）が月</a:t>
            </a:r>
            <a:r>
              <a:rPr b="0" lang="en-US" sz="1500" spc="-1" strike="noStrike">
                <a:solidFill>
                  <a:srgbClr val="000000"/>
                </a:solidFill>
                <a:latin typeface="Arial"/>
              </a:rPr>
              <a:t>45</a:t>
            </a:r>
            <a:r>
              <a:rPr b="0" lang="ja-JP" sz="1500" spc="-1" strike="noStrike">
                <a:solidFill>
                  <a:srgbClr val="000000"/>
                </a:solidFill>
                <a:latin typeface="Arial"/>
              </a:rPr>
              <a:t>時間超、年</a:t>
            </a:r>
            <a:r>
              <a:rPr b="0" lang="en-US" sz="1500" spc="-1" strike="noStrike">
                <a:solidFill>
                  <a:srgbClr val="000000"/>
                </a:solidFill>
                <a:latin typeface="Arial"/>
              </a:rPr>
              <a:t>360</a:t>
            </a:r>
            <a:r>
              <a:rPr b="0" lang="ja-JP" sz="1500" spc="-1" strike="noStrike">
                <a:solidFill>
                  <a:srgbClr val="000000"/>
                </a:solidFill>
                <a:latin typeface="Arial"/>
              </a:rPr>
              <a:t>時間の者を</a:t>
            </a:r>
            <a:r>
              <a:rPr b="0" lang="en-US" sz="1500" spc="-1" strike="noStrike">
                <a:solidFill>
                  <a:srgbClr val="000000"/>
                </a:solidFill>
                <a:latin typeface="Arial"/>
              </a:rPr>
              <a:t>0</a:t>
            </a:r>
            <a:r>
              <a:rPr b="0" lang="ja-JP" sz="1500" spc="-1" strike="noStrike">
                <a:solidFill>
                  <a:srgbClr val="000000"/>
                </a:solidFill>
                <a:latin typeface="Arial"/>
              </a:rPr>
              <a:t>にすること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月１回以上、年間５日以上の年次休暇等を取得できるよう業務内容の調整</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を行います。</a:t>
            </a:r>
            <a:endParaRPr b="0" lang="en-US" sz="1500" spc="-1" strike="noStrike">
              <a:solidFill>
                <a:srgbClr val="000000"/>
              </a:solidFill>
              <a:latin typeface="Arial"/>
            </a:endParaRPr>
          </a:p>
        </p:txBody>
      </p:sp>
      <p:sp>
        <p:nvSpPr>
          <p:cNvPr id="58" name="Rectangle 70"/>
          <p:cNvSpPr/>
          <p:nvPr/>
        </p:nvSpPr>
        <p:spPr>
          <a:xfrm>
            <a:off x="6780240" y="3328920"/>
            <a:ext cx="6335640" cy="1498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生徒に向き合う時間を確保し、質の高い教育を持続的に提供するため、日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常的に働き方の見直しが図られて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一人一人が心身に余裕を持ち、やりがいを感じながら業務に取り組</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教職員が家庭やプライベートの時間や自由時間を確保できている。</a:t>
            </a:r>
            <a:endParaRPr b="0" lang="en-US" sz="1500" spc="-1" strike="noStrike">
              <a:solidFill>
                <a:srgbClr val="000000"/>
              </a:solidFill>
              <a:latin typeface="Arial"/>
            </a:endParaRPr>
          </a:p>
        </p:txBody>
      </p:sp>
      <p:sp>
        <p:nvSpPr>
          <p:cNvPr id="59" name="Rectangle 70"/>
          <p:cNvSpPr/>
          <p:nvPr/>
        </p:nvSpPr>
        <p:spPr>
          <a:xfrm>
            <a:off x="806400" y="8790120"/>
            <a:ext cx="12344400" cy="4586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806400" y="9248760"/>
            <a:ext cx="1234440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定期的に教職員に周知・共有するとともに、教職員による自己啓発を推進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への掲載や、会議等での説明を通じて地域・保護者に対してアクションプランの内容をお知らせします。</a:t>
            </a:r>
            <a:endParaRPr b="0" lang="en-US" sz="1800" spc="-1" strike="noStrike">
              <a:solidFill>
                <a:srgbClr val="000000"/>
              </a:solidFill>
              <a:latin typeface="Arial"/>
            </a:endParaRPr>
          </a:p>
        </p:txBody>
      </p:sp>
      <p:graphicFrame>
        <p:nvGraphicFramePr>
          <p:cNvPr id="61" name=""/>
          <p:cNvGraphicFramePr/>
          <p:nvPr/>
        </p:nvGraphicFramePr>
        <p:xfrm>
          <a:off x="806400" y="5275440"/>
          <a:ext cx="12344400" cy="3474720"/>
        </p:xfrm>
        <a:graphic>
          <a:graphicData uri="http://schemas.openxmlformats.org/drawingml/2006/table">
            <a:tbl>
              <a:tblPr/>
              <a:tblGrid>
                <a:gridCol w="635040"/>
                <a:gridCol w="1879560"/>
                <a:gridCol w="9829800"/>
              </a:tblGrid>
              <a:tr h="14634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最低でも週１回の定時退庁又は校舎施錠時間前の退勤について積極的に呼びかけを行</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年次休暇等を取得していない教職員や、月の時間外在校等時間が月途中で</a:t>
                      </a:r>
                      <a:r>
                        <a:rPr b="0" lang="en-US" sz="1800" spc="-1" strike="noStrike">
                          <a:solidFill>
                            <a:srgbClr val="000000"/>
                          </a:solidFill>
                          <a:latin typeface="ＭＳ Ｐゴシック"/>
                        </a:rPr>
                        <a:t>70</a:t>
                      </a:r>
                      <a:r>
                        <a:rPr b="0" lang="ja-JP" sz="1800" spc="-1" strike="noStrike">
                          <a:solidFill>
                            <a:srgbClr val="000000"/>
                          </a:solidFill>
                          <a:latin typeface="ＭＳ Ｐゴシック"/>
                        </a:rPr>
                        <a:t>時間超となった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対する声掛けを行い、その要因を把握するとともに、健康確保の観点から定時退庁の声掛けや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休日の確保を促し、教職員の業務の平準化と健康管理に努め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前例にとらわれず業務の見直しを進め、業務の優先順位の把握と効率的な業務推進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保護者との連絡や配付物・アンケート等は、オンラインやメール等を積極的に活用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は、外部コーチや部活動指導員と連携するとともに、顧問間で交代して指導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働き方改革の取組について、保護者や地域の方にも御理解をいただけるよう学校ＨＰで周知し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Teams</a:t>
                      </a:r>
                      <a:r>
                        <a:rPr b="0" lang="ja-JP" sz="1800" spc="-1" strike="noStrike">
                          <a:solidFill>
                            <a:srgbClr val="000000"/>
                          </a:solidFill>
                          <a:latin typeface="ＭＳ Ｐゴシック"/>
                        </a:rPr>
                        <a:t>の活用をはじめ、</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両校舎間の円滑な情報共有と業務の効率化に取り組み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職員が教育活動にやりがいを感じるよう、アクションプランの確実な実施に取り組みます。</a:t>
                      </a:r>
                      <a:endParaRPr b="0" lang="en-US" sz="18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975360" y="1592280"/>
            <a:ext cx="577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岩澤　利治</cp:lastModifiedBy>
  <cp:lastPrinted>2024-05-07T00:22:59Z</cp:lastPrinted>
  <dcterms:modified xsi:type="dcterms:W3CDTF">2024-05-16T05:00:45Z</dcterms:modified>
  <cp:revision>1011</cp:revision>
  <dc:subject/>
  <dc:title>スライド 1</dc:title>
</cp:coreProperties>
</file>