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2680"/>
            <a:ext cx="5051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336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7494-7DF5-417F-8020-9317CC23581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8969-80BE-4921-B2CD-39960529D0B8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73000" y="743040"/>
            <a:ext cx="5051520" cy="372276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A0BF-A99E-424E-8BC9-C9501586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36FE-0F97-482E-9F1E-64CFDA0C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1A5F-BB5D-4CF1-891E-AFC97EF6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58FA-A031-45A7-B72A-0C57CB39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A69E-8B61-4FB4-B208-07E1C6D2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54DE-525C-44D3-A90D-F9A59736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43AC-09FF-493D-9E85-75D0C4CB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4E29-389F-4F30-8A8C-BCA31FBD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AC6F-4260-40D7-B3F7-9C9D59C0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E8CB-1299-4C1A-9B26-594AAF47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3B56-AFDB-4EB7-BE39-EBF39919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4DB2-AB22-4714-AA9D-09205BD1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156F-DBFF-4A98-B266-4509833A74DA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気仙光陵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明るく　楽しく　元気よく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63760"/>
            <a:ext cx="5473440" cy="3315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22400" y="5046840"/>
            <a:ext cx="11783880" cy="41400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503280" y="1101600"/>
            <a:ext cx="126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気仙光陵支援学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473440" cy="3079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目標達成状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時間外在校等時間が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度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度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外在校等時間が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超延べ人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度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度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（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超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度でもあった者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度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度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）　　　　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教職員の状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よりよい授業づくりの努力は惜しまないが、他業務のために時間が限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られている。また、時期により、業務が集中する職員が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管理職の対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時間外在校等時間から業務量の把握を行っており、可能なところ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業務分担の見直しや削減を図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2"/>
          <p:cNvSpPr/>
          <p:nvPr/>
        </p:nvSpPr>
        <p:spPr>
          <a:xfrm>
            <a:off x="9001080" y="9524880"/>
            <a:ext cx="49528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５月８日　気仙光陵支援学校長　石川　則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191360" y="1440000"/>
            <a:ext cx="5626080" cy="37296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"/>
          <p:cNvSpPr/>
          <p:nvPr/>
        </p:nvSpPr>
        <p:spPr>
          <a:xfrm>
            <a:off x="6576840" y="2263680"/>
            <a:ext cx="614520" cy="1650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13680" y="2165400"/>
            <a:ext cx="5603760" cy="8967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学校独自の目標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教職員一人一人の時間外在校等時間が前年度を下回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働き方改革の取組に対する教職員の肯定的評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15120" y="3068640"/>
            <a:ext cx="5591160" cy="1792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児童生徒の充実した学びが実現し、保護者も教育活動に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足し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一人一人が手応えを感じながら教育活動を行って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は、健康で、心が満たされる時間を生活の中で確保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1011240" y="8474040"/>
            <a:ext cx="1180620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1022400" y="8861400"/>
            <a:ext cx="1179504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　職員会議において、プランを教職員に周知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　学校運営協議会において、プランを提示し、各委員より助言をいただ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22400" y="5448240"/>
          <a:ext cx="11795040" cy="2925720"/>
        </p:xfrm>
        <a:graphic>
          <a:graphicData uri="http://schemas.openxmlformats.org/drawingml/2006/table">
            <a:tbl>
              <a:tblPr/>
              <a:tblGrid>
                <a:gridCol w="815760"/>
                <a:gridCol w="2016360"/>
                <a:gridCol w="8962920"/>
              </a:tblGrid>
              <a:tr h="91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教職員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健康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各職員室ごとに、月に一度のノー残業デーを確実に実施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管理職は、時間外在校等時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5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時間を超える教職員に声掛けをするとともに、業務状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　を把握し、業務の割り振りを検討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２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学校におけ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改善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会議の内容の吟味、実施回数、ＩＣＴの活用、資料のデータ化などの検討を行い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３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の明確化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適正化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学校閉庁時の児童生徒の対応について、保護者、関係機関との連携、協力体制を図り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　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令和６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重点取組事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令和６年度から全教職員一斉の定時退庁に取り組み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2" name="テキスト ボックス 2"/>
          <p:cNvSpPr/>
          <p:nvPr/>
        </p:nvSpPr>
        <p:spPr>
          <a:xfrm>
            <a:off x="7191360" y="1819440"/>
            <a:ext cx="57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県の働き方改革プランの目標を前提に、以下の目標を設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石川　則子</cp:lastModifiedBy>
  <cp:lastPrinted>2024-05-02T08:08:21Z</cp:lastPrinted>
  <dcterms:modified xsi:type="dcterms:W3CDTF">2024-05-02T09:19:16Z</dcterms:modified>
  <cp:revision>991</cp:revision>
  <dc:subject/>
  <dc:title>スライド 1</dc:title>
</cp:coreProperties>
</file>