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2680"/>
            <a:ext cx="5051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336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7E25-C342-4113-B4DF-2D5AC532AF7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26DA-D065-4805-BAF1-C2AEFA599C72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3000" y="743040"/>
            <a:ext cx="5051520" cy="37227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F0CB-9BB8-4911-870C-801C982A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5C95-CD49-4207-A790-A16FCCF4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5FDD-5A99-459F-B8A5-903E7570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5FE-2837-46A1-83BD-0185DED2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11A-3417-4C24-B5A5-BFC8E8D9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711-A189-459B-A7D4-B96094AE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6D82-0DF1-443F-B79B-1A2B5AEC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FF5F-6621-4B6A-AEC4-FC80E2D9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ACC7-5375-4A7E-B845-C9F6925E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2AC4-0AA9-4F10-833E-4031A647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5F3B-EC8B-4E27-B6FC-028313DC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1C1F-9D4D-4E89-AF13-1D769B57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F285-A1D2-40F3-8970-28FA9CBC5221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盛岡聴覚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「チーム盛聴」：目配り、気配り、細やかな連携で着実な推進 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63760"/>
            <a:ext cx="547344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2400" y="5046840"/>
            <a:ext cx="11783880" cy="414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1257480" y="110016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盛岡聴覚支援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473440" cy="3079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：０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０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０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次休暇の取得状況について（年間一人当たりの平均取得日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.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.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.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盛聴フライデー等の取り組みにより定時退庁の意識が高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時間外勤務している教職員が固定し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職員全体で意欲的に聴覚支援教育に取り組む姿勢を大切にし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やりがいのある職場環境の実現に取り組んで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9001080" y="9524880"/>
            <a:ext cx="4952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日　盛岡聴覚支援学校長　森山　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165400"/>
            <a:ext cx="5603760" cy="1239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校独自の目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教職員一人当たりの月の平均時間外在校等時間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時間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 以下とすること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月に１回以上の年次休暇の取得及び年間に１日単位で５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 以上の取得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15120" y="3433680"/>
            <a:ext cx="5591160" cy="1513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こどもたちへの質の高い教育を持続的に提供し得る観点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  ら働き方の見直しが図られ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一人一人が、やりがいを感じながら業務に取り組んで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、家庭のための時間や自由時間を確保でき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11240" y="847404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1022400" y="8861400"/>
            <a:ext cx="1179504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プランを学校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掲載し、会議等を通じて教職員にも周知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学校運営協議会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通じて、地域・保護者に対してプランの内容の説明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2400" y="5448240"/>
          <a:ext cx="11795040" cy="292572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が、健康管理や必要な通院について積極的に呼びかけ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月の時間外在校等時間が月の中間で２０時間超となった教職員に声掛けし、健康確保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　観点から、業務分担の見直しや取り組みについてアドバイス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行事等について、教育において真に必要な観点から業務の見直しを進め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保護者へのお知らせについて、メールやブログ等の活用を推進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働き方改革の取組について、保護者や地域の方に理解いただけるよう周知を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業務分担の明確化、適正化が図られるよう「チーム盛聴」として全体で推進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令和６年度から新たに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0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分以内の会議の実施（職員会議は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5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分）」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佐藤　修子</cp:lastModifiedBy>
  <cp:lastPrinted>2024-04-25T07:03:35Z</cp:lastPrinted>
  <dcterms:modified xsi:type="dcterms:W3CDTF">2024-05-15T23:56:02Z</dcterms:modified>
  <cp:revision>990</cp:revision>
  <dc:subject/>
  <dc:title>スライド 1</dc:title>
</cp:coreProperties>
</file>