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A7DF-C500-45AE-9F12-70AB61117B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A66C-B933-488F-9B5F-6A639023EEE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58967-6BBC-44A0-AA67-22C4259E9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F948-6D95-4770-A67B-2C84E446E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D79C0-68F6-425C-B8C0-DF8FA7321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F0294-977A-43E6-9293-2233D3D13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366B-4EBD-42C4-9210-2758C7B17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D0696-5B07-4F0A-8C53-15593F18C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B0794-67B3-4E94-83AF-3D8FD865F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EA064-9AD7-4730-B998-68DFE5DCA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DE872-10E7-40EA-94F3-B2035BFE1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7BF28-88DA-49E4-A109-983796727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5CAE-FA35-455E-B0C3-87EDCC20D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9D62-2099-45C6-B47B-5F4C92CD6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5F90-FD60-4D0C-937A-43D8353406F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北上翔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健康第一・教職員一人ひとりがいきいき働ける職場へ～</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63640" y="1101600"/>
            <a:ext cx="1231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北上翔南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4.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3.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a:t>
            </a:r>
            <a:r>
              <a:rPr b="0" lang="ja-JP" sz="1400" spc="-1" strike="noStrike">
                <a:solidFill>
                  <a:srgbClr val="000000"/>
                </a:solidFill>
                <a:latin typeface="Arial"/>
              </a:rPr>
              <a:t>日</a:t>
            </a: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0" lang="en-US" sz="1400" spc="-1" strike="noStrike">
                <a:solidFill>
                  <a:srgbClr val="000000"/>
                </a:solidFill>
                <a:latin typeface="Arial"/>
              </a:rPr>
              <a:t>IT</a:t>
            </a:r>
            <a:r>
              <a:rPr b="0" lang="ja-JP" sz="1400" spc="-1" strike="noStrike">
                <a:solidFill>
                  <a:srgbClr val="000000"/>
                </a:solidFill>
                <a:latin typeface="Arial"/>
              </a:rPr>
              <a:t>化推進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IT</a:t>
            </a:r>
            <a:r>
              <a:rPr b="0" lang="ja-JP" sz="1400" spc="-1" strike="noStrike">
                <a:solidFill>
                  <a:srgbClr val="000000"/>
                </a:solidFill>
                <a:latin typeface="Arial"/>
              </a:rPr>
              <a:t>化を推進し、スクラップアンドビルドの視点を持って業務見直し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a:t>
            </a:r>
            <a:r>
              <a:rPr b="0" lang="en-US" sz="1100" spc="-1" strike="noStrike">
                <a:solidFill>
                  <a:srgbClr val="000000"/>
                </a:solidFill>
                <a:latin typeface="Arial"/>
              </a:rPr>
              <a:t>22</a:t>
            </a:r>
            <a:r>
              <a:rPr b="0" lang="ja-JP" sz="1100" spc="-1" strike="noStrike">
                <a:solidFill>
                  <a:srgbClr val="000000"/>
                </a:solidFill>
                <a:latin typeface="Arial"/>
              </a:rPr>
              <a:t>日　岩手県立北上翔南高等学校長　千葉勝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25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月</a:t>
            </a:r>
            <a:r>
              <a:rPr b="0" lang="en-US" sz="1600" spc="-1" strike="noStrike">
                <a:solidFill>
                  <a:srgbClr val="000000"/>
                </a:solidFill>
                <a:latin typeface="Arial"/>
              </a:rPr>
              <a:t>30</a:t>
            </a:r>
            <a:r>
              <a:rPr b="0" lang="ja-JP" sz="1600" spc="-1" strike="noStrike">
                <a:solidFill>
                  <a:srgbClr val="000000"/>
                </a:solidFill>
                <a:latin typeface="Arial"/>
              </a:rPr>
              <a:t>時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297240"/>
            <a:ext cx="5591160" cy="1563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楽しいと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a:t>
            </a:r>
            <a:r>
              <a:rPr b="0" lang="ja-JP" sz="1800" spc="-1" strike="noStrike">
                <a:solidFill>
                  <a:srgbClr val="000000"/>
                </a:solidFill>
                <a:latin typeface="Arial"/>
              </a:rPr>
              <a:t>総会、学校運営協議会、学校連絡網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健康第一を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時間超となった教職員に声掛けし、健康確保の観点</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から、個別面談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二人担任制を導入し、業務の分散化を推進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連絡文書については、紙での配付を廃止し、ホームページやメールでの配付・</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部活動指導員等の協力をいただきながら軽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業務の見直し」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西里　孝義</cp:lastModifiedBy>
  <cp:lastPrinted>2024-04-22T06:07:10Z</cp:lastPrinted>
  <dcterms:modified xsi:type="dcterms:W3CDTF">2024-04-23T00:24:26Z</dcterms:modified>
  <cp:revision>989</cp:revision>
  <dc:subject/>
  <dc:title>スライド 1</dc:title>
</cp:coreProperties>
</file>