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440" y="744480"/>
            <a:ext cx="505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FE37-C144-4833-8081-02E0EC62BA4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BF6D-3DE6-4157-9664-D4A39145B504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74800" y="744480"/>
            <a:ext cx="5057640" cy="37274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C9A8-4AA9-44DC-A7C9-868FA42A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D708-5230-4D20-AAB1-69754D61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F96F-DBE3-4482-8AEF-1465DC67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7C32-A700-4314-8B86-D363889A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E28E-BAFE-4714-9270-27FF6254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F4F2-5D52-4DD7-8BC5-3EDBF020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8CA-27B6-411D-A8F6-35D2740F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5AEF-72C7-40D2-BEE3-40E8B5BB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85C1-4A48-4A7B-911C-C935A3AB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6445-CBD0-4687-B1F9-ED1F7C63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9A0D-A751-4BA7-AB6A-678F15C6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0FF5-AC7A-4AEF-8D86-08DD45EC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DF8A-6741-403F-99E1-E28105AE03F5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岩泉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魅力ある職場と健康的な生活をめざして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63760"/>
            <a:ext cx="5473440" cy="3315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22400" y="5046840"/>
            <a:ext cx="11783880" cy="41400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905040" y="1101600"/>
            <a:ext cx="1191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岩泉高等学校では、「岩手県教職員働き方改革プラン（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473440" cy="3079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目標達成状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外在校等時間が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の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か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ゼ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次休暇の取得状況について（年間一人当たりの平均取得日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9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.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教職員の意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本校で推進する「早く帰る日」の取組がまだ浸透し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特定の部活動顧問に負担が集中しがちであ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管理職のマネジメ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面談等によって業務の進捗状況や負担等を把握し、業務内容の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理や振分等を行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2"/>
          <p:cNvSpPr/>
          <p:nvPr/>
        </p:nvSpPr>
        <p:spPr>
          <a:xfrm>
            <a:off x="9001080" y="9524880"/>
            <a:ext cx="49528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５月８日　岩泉高等学校長　岩渕　雅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91360" y="1440000"/>
            <a:ext cx="5626080" cy="37296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"/>
          <p:cNvSpPr/>
          <p:nvPr/>
        </p:nvSpPr>
        <p:spPr>
          <a:xfrm>
            <a:off x="6576840" y="2263680"/>
            <a:ext cx="614520" cy="1650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13680" y="2165400"/>
            <a:ext cx="5603760" cy="1239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学校独自の目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教職員一人当たりの平均時間外在校等時間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時間と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ることを目指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年次休暇の平均取得日数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に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15120" y="3433680"/>
            <a:ext cx="5591160" cy="14274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授業準備にしっかりと時間を確保し、質の高い教育を持続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に提供し得る観点から働き方の見直しが図られ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一人一人が、活力を感じながら業務に取り組んで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が、家庭のための時間や自由時間を確保でき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1011240" y="8474040"/>
            <a:ext cx="1180620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1022400" y="8861400"/>
            <a:ext cx="1179504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　プランの内容を、職員会議等を通じて教職員に周知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　地域回覧板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総会等を通じ、地域・保護者に対してプランの内容の説明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22400" y="5448240"/>
          <a:ext cx="11795040" cy="2925720"/>
        </p:xfrm>
        <a:graphic>
          <a:graphicData uri="http://schemas.openxmlformats.org/drawingml/2006/table">
            <a:tbl>
              <a:tblPr/>
              <a:tblGrid>
                <a:gridCol w="815760"/>
                <a:gridCol w="2016360"/>
                <a:gridCol w="8962920"/>
              </a:tblGrid>
              <a:tr h="913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教職員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健康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管理職が、１時間単位の年次休暇取得について積極的に呼びかけを行い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月の時間外在校等時間が月途中で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5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時間超となった教職員に声掛けし、健康確保の観点から、管理職による面談や業務推進に係る助言を行い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２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学校におけ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改善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長期休業中の課外授業について、実施内容の精選を行い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部活動指導を複数顧問によって交代で行い、他業務の遂行に要する時間を確保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1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３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の明確化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適正化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教員の本来業務以外のものについては、積極的に地域・保護者等へ協力を要請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個々の役割分担を常に見直し、柔軟な発想によって適正化および合理化を進め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令和６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重点取組事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令和６年度から新たに会議時間の短縮に取り組み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2" name="テキスト ボックス 2"/>
          <p:cNvSpPr/>
          <p:nvPr/>
        </p:nvSpPr>
        <p:spPr>
          <a:xfrm>
            <a:off x="7191360" y="1819440"/>
            <a:ext cx="57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県の働き方改革プランの目標を前提に、以下の目標を設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岩渕　雅明</cp:lastModifiedBy>
  <cp:lastPrinted>2024-05-07T03:44:36Z</cp:lastPrinted>
  <dcterms:modified xsi:type="dcterms:W3CDTF">2024-05-08T02:00:53Z</dcterms:modified>
  <cp:revision>1005</cp:revision>
  <dc:subject/>
  <dc:title>スライド 1</dc:title>
</cp:coreProperties>
</file>