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7963-B5C3-4B13-A972-2366E2271A4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D5C0-230E-499F-8EE0-27E5D9D75BE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136-8108-4C63-BE8E-D9A402B7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561-2DCE-40E6-A658-8BC74877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E52-F876-4060-8157-2698B226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E77-E245-4483-9797-7E6B995D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A52-9E3E-4B7A-8184-B3CE3EFE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242-04D5-49F5-9FE8-73CB56D6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7C3-7072-4A58-9FEC-1999A0D7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E0F-BE94-4BA1-91F3-F52907B8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70D-36F1-4B8D-8D7A-ED5971A9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338-B6B4-4124-AAB1-530D766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A7D-6D5F-472A-B8FF-78C79B54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C6C-6DA6-4782-9A72-385CE13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8DEB-5884-4682-A18F-C851E3B2DD06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ac1"/>
            </a:gs>
            <a:gs pos="100000">
              <a:srgbClr val="e9f4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10800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大槌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b0f0"/>
                </a:solidFill>
                <a:latin typeface="HGS創英角ｺﾞｼｯｸUB"/>
                <a:ea typeface="HGS創英角ｺﾞｼｯｸUB"/>
              </a:rPr>
              <a:t>～魅力化の第一歩は私たちの働き方から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791400"/>
            <a:ext cx="11738160" cy="9856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業務内容の見直しを図り、業務の総量を縮減するよう心がけ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月平均で時間外勤務８０時間以上の勤務者をゼロを維持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等休暇取得日数全員１０日以上が実現できるように、管理職が呼びかける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404040"/>
            <a:ext cx="1174896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令和６年度重点取組事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338120"/>
            <a:ext cx="5545080" cy="33840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89000" y="408780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895320" y="1001880"/>
            <a:ext cx="11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大槌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689120"/>
            <a:ext cx="5545080" cy="2311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・時間外在校等時間は適正範囲内である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平均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3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・年次休暇の取得状況は良好である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5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平均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6.06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）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極端に少ない職員も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小規模校のため職員の人数が少なく、一人あたりの業務量が多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高校魅力化をはじめ防災教育や復興関連業務が多い。地域と連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しながら進めていくため計画立案や調整業務が難しく負担が少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くない。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指導や地域連携事業等による時間外勤務が多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7840" y="4459320"/>
            <a:ext cx="4024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１）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6960" y="445932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２）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9104400" y="950436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大槌高等学校長　志田　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312920"/>
            <a:ext cx="5535720" cy="36360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655640"/>
            <a:ext cx="5535720" cy="23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今年度も時間外在校等時間について留意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すべての職員で業務を分担し、全員が年次休暇の平均取得日数を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以上に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指す姿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と生徒が共に自己実現できる、明るい学校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が個人の生活を大切にできる職場環境を整え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全教職員がお互いを認め合い働きやすい職場環境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3180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0920" y="445932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３）業務の明確化・適正化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089680" y="4840200"/>
            <a:ext cx="3966840" cy="1451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会議の削減や時間短縮、業務の見直しに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効率化を進め教員の負担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の休みを原則平日１日、週末１日に設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定する。また、振替の取得促進を進め、各顧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問の負担軽減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6240" y="4840200"/>
            <a:ext cx="3744720" cy="1451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育目標やスクールポリシー等を示し、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の目的を明確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校務を適正に分担し、過重な負担になら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ないように配慮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タイムカードによる客観的な勤務時間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把握し、残業時間の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0"/>
          <p:cNvSpPr/>
          <p:nvPr/>
        </p:nvSpPr>
        <p:spPr>
          <a:xfrm>
            <a:off x="1089000" y="4846680"/>
            <a:ext cx="3990960" cy="14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休暇等の取得促進を図り、身体的、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的な休養がとりやすい職場環境を構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職員間の良好な関係維持を図るとともに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心理的安全性の確保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健康診断、人間ドック等の推奨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77840" y="807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108080" y="8486640"/>
            <a:ext cx="11737800" cy="9860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プランを学校ＨＰに掲載し、会議等を通じて教職員にも周知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ＰＴＡ会報や町の広報誌を通して、保護者や地域の方々にプランの内容を周知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伊藤　晃</cp:lastModifiedBy>
  <cp:lastPrinted>2024-05-14T08:07:46Z</cp:lastPrinted>
  <dcterms:modified xsi:type="dcterms:W3CDTF">2024-05-14T08:14:28Z</dcterms:modified>
  <cp:revision>965</cp:revision>
  <dc:subject/>
  <dc:title>スライド 1</dc:title>
</cp:coreProperties>
</file>