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D2CB7-83BC-4214-B0BF-90B3985D672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AF461-45F3-48FC-BBA6-DD6EF8B5C1F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5" name="PlaceHolder 1"/>
          <p:cNvSpPr>
            <a:spLocks noGrp="1"/>
          </p:cNvSpPr>
          <p:nvPr>
            <p:ph type="sldImg"/>
          </p:nvPr>
        </p:nvSpPr>
        <p:spPr>
          <a:xfrm>
            <a:off x="874800" y="744480"/>
            <a:ext cx="5057640" cy="3727440"/>
          </a:xfrm>
          <a:prstGeom prst="rect">
            <a:avLst/>
          </a:prstGeom>
          <a:ln w="0">
            <a:noFill/>
          </a:ln>
        </p:spPr>
      </p:sp>
      <p:sp>
        <p:nvSpPr>
          <p:cNvPr id="66"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66BC2-9C4C-41A2-88FD-5C7B8C9EF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D3A31-4BBB-46C6-8B06-46B95B437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DB344-6940-4194-8128-43499ADEF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AA477-2159-4E5F-A7D9-F6389FC4E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0C63D-8897-46C5-9E59-93AD4E7D1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4F6E7-AFB6-432F-BC23-CAC7807D2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00761-BD1A-419A-BC25-0A9DB25DD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70FC8-AD94-4D22-87B4-57B0A86BB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936FC-8D9F-4138-B3A5-A95532D03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AB42A-018B-4425-A23B-339F32ECB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78CFD-C8A8-44C7-81A1-03D219F3E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86A3E-7BCB-4EB8-BFE2-09CDA86F7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8A1E7-E986-40A0-AA58-A4E25FC5667B}"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0"/>
            <a:ext cx="11449080" cy="102708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岩手県立盛岡視覚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ウェルビーイングな職場づくり～　</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647640" y="1101600"/>
            <a:ext cx="12817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盛岡視覚支援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０人、</a:t>
            </a:r>
            <a:r>
              <a:rPr b="0" lang="en-US" sz="1400" spc="-1" strike="noStrike">
                <a:solidFill>
                  <a:srgbClr val="000000"/>
                </a:solidFill>
                <a:latin typeface="Arial"/>
              </a:rPr>
              <a:t>R</a:t>
            </a:r>
            <a:r>
              <a:rPr b="0" lang="ja-JP" sz="1400" spc="-1" strike="noStrike">
                <a:solidFill>
                  <a:srgbClr val="000000"/>
                </a:solidFill>
                <a:latin typeface="Arial"/>
              </a:rPr>
              <a:t>４年度：０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5.6</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6.5</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7.4</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施錠時間前に退勤するという意識が全教職員に徹底さ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職員数減の状況の中で組織の見直しを図りながら業務見直し等</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の対応を行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640720" y="957564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１日　盛岡視覚支援学校長　近藤健一</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正方形/長方形 3"/>
          <p:cNvSpPr/>
          <p:nvPr/>
        </p:nvSpPr>
        <p:spPr>
          <a:xfrm>
            <a:off x="14185800" y="530280"/>
            <a:ext cx="1295640" cy="5443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0" lang="ja-JP" sz="2500" spc="-1" strike="noStrike">
                <a:solidFill>
                  <a:srgbClr val="000000"/>
                </a:solidFill>
                <a:latin typeface="Arial"/>
              </a:rPr>
              <a:t>策定例</a:t>
            </a:r>
            <a:endParaRPr b="0" lang="en-US" sz="2500" spc="-1" strike="noStrike">
              <a:solidFill>
                <a:srgbClr val="000000"/>
              </a:solidFill>
              <a:latin typeface="Arial"/>
            </a:endParaRPr>
          </a:p>
        </p:txBody>
      </p:sp>
      <p:sp>
        <p:nvSpPr>
          <p:cNvPr id="58" name="Rectangle 70"/>
          <p:cNvSpPr/>
          <p:nvPr/>
        </p:nvSpPr>
        <p:spPr>
          <a:xfrm>
            <a:off x="7213680" y="2165400"/>
            <a:ext cx="574812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働き方改革プランの目標を達成しながら、職員全員が学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評価で働きがいのある職場と答えられるよう取り組み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〇研修や教材研究等の授業準備に充てる時間を確保し、視覚</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障がいに関する専門性、授業力の向上を目指します。</a:t>
            </a:r>
            <a:endParaRPr b="0" lang="en-US" sz="1600" spc="-1" strike="noStrike">
              <a:solidFill>
                <a:srgbClr val="000000"/>
              </a:solidFill>
              <a:latin typeface="Arial"/>
            </a:endParaRPr>
          </a:p>
        </p:txBody>
      </p:sp>
      <p:sp>
        <p:nvSpPr>
          <p:cNvPr id="59" name="Rectangle 70"/>
          <p:cNvSpPr/>
          <p:nvPr/>
        </p:nvSpPr>
        <p:spPr>
          <a:xfrm>
            <a:off x="7215120" y="3433680"/>
            <a:ext cx="5591160" cy="1613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幼児児童生徒へ質の高い教育を持続的に提供し得る観点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教職員一人一人がお互いを気遣い、心身共に健康でやり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いを感じながら業務に取り組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教職員が、家庭のための時間や自由時間を確保できている。</a:t>
            </a:r>
            <a:endParaRPr b="0" lang="en-US" sz="1600" spc="-1" strike="noStrike">
              <a:solidFill>
                <a:srgbClr val="000000"/>
              </a:solidFill>
              <a:latin typeface="Arial"/>
            </a:endParaRPr>
          </a:p>
        </p:txBody>
      </p:sp>
      <p:sp>
        <p:nvSpPr>
          <p:cNvPr id="60"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1" name="Rectangle 70"/>
          <p:cNvSpPr/>
          <p:nvPr/>
        </p:nvSpPr>
        <p:spPr>
          <a:xfrm>
            <a:off x="1025640" y="9015480"/>
            <a:ext cx="11795040" cy="522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学校運営協議会等の会議やホームページを通じて、地域・保護者に対してプランの内容の説明を行います。</a:t>
            </a:r>
            <a:endParaRPr b="0" lang="en-US" sz="1800" spc="-1" strike="noStrike">
              <a:solidFill>
                <a:srgbClr val="000000"/>
              </a:solidFill>
              <a:latin typeface="Arial"/>
            </a:endParaRPr>
          </a:p>
        </p:txBody>
      </p:sp>
      <p:graphicFrame>
        <p:nvGraphicFramePr>
          <p:cNvPr id="62" name=""/>
          <p:cNvGraphicFramePr/>
          <p:nvPr/>
        </p:nvGraphicFramePr>
        <p:xfrm>
          <a:off x="1022400" y="5448240"/>
          <a:ext cx="11795040" cy="3687840"/>
        </p:xfrm>
        <a:graphic>
          <a:graphicData uri="http://schemas.openxmlformats.org/drawingml/2006/table">
            <a:tbl>
              <a:tblPr/>
              <a:tblGrid>
                <a:gridCol w="815760"/>
                <a:gridCol w="2016360"/>
                <a:gridCol w="8962920"/>
              </a:tblGrid>
              <a:tr h="914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定時退庁や心身のリフレッシュ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衛生委員会（拡大衛生委員会）を毎月実施し健康管理について情報共有及び意識化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11890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オンラインの活用、資料の事前配付、終了時刻の明確化、進行の工夫等により、会議の効率化を図り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職員の意識改革を目的に、週に</a:t>
                      </a:r>
                      <a:r>
                        <a:rPr b="0" lang="en-US" sz="1800" spc="-1" strike="noStrike">
                          <a:solidFill>
                            <a:srgbClr val="000000"/>
                          </a:solidFill>
                          <a:latin typeface="ＭＳ Ｐゴシック"/>
                        </a:rPr>
                        <a:t>1</a:t>
                      </a:r>
                      <a:r>
                        <a:rPr b="0" lang="ja-JP" sz="1800" spc="-1" strike="noStrike">
                          <a:solidFill>
                            <a:srgbClr val="000000"/>
                          </a:solidFill>
                          <a:latin typeface="ＭＳ Ｐゴシック"/>
                        </a:rPr>
                        <a:t>度「定時退庁日」を設定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家庭への連絡にメールを活用し業務の効率化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914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業務の平準化のために引き続き分掌・組織、業務の分担の見直しを図り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教職員が参加する研修や会議にオンライン等を活用し、移動にかかる時間や身体的負担を軽減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更に積極的な協働を進め、個人の負担軽減、専門性の継承を進める業務の推進をおこな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3"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中村　和弘</cp:lastModifiedBy>
  <cp:lastPrinted>2024-04-10T04:27:27Z</cp:lastPrinted>
  <dcterms:modified xsi:type="dcterms:W3CDTF">2024-05-19T23:55:09Z</dcterms:modified>
  <cp:revision>989</cp:revision>
  <dc:subject/>
  <dc:title>スライド 1</dc:title>
</cp:coreProperties>
</file>