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AFE78-840F-4603-90A8-DEC077E552E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91FE-0DE8-41B1-879A-22E3C58FCAB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70801-F30E-4F3E-A80F-182DEA99F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EE1E9-B50C-4B33-BCA9-908D22EB0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3F369-8621-41D0-8865-A7B4DE62D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FF9F7-FAEF-4F55-971D-03487BBF1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3BC32-7C2F-4E27-900C-9D62F3C9D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22F37-E921-4028-9668-E68688BE2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88777-9614-4505-B770-41F7A453E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DAA0B-50E1-4C54-819E-6C0B99FF8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8BEAC-58CD-4C63-B459-E3CAD32D4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898B9-2BAA-4C91-B5AC-955FEAB95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7DBBB-BC6A-431B-A1EB-87D7C2DBC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742A0-24D9-465B-B935-5FAF9CD22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EBA47-5713-4CCD-929F-9F7CA466F0F1}"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久慈高等学校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573120" y="1101600"/>
            <a:ext cx="122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久慈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7</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0</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0</a:t>
            </a:r>
            <a:r>
              <a:rPr b="0" lang="ja-JP" sz="1400" spc="-1" strike="noStrike">
                <a:solidFill>
                  <a:srgbClr val="000000"/>
                </a:solidFill>
                <a:latin typeface="Arial"/>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1.2</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3.4</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5.8</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業務のペーパーレス化の取組が全教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部活動の大会開催時期及び受験期に時間外勤務が集中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７日　久慈高等学校長　藤田知彦</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35</a:t>
            </a:r>
            <a:r>
              <a:rPr b="0" lang="ja-JP" sz="1600" spc="-1" strike="noStrike">
                <a:solidFill>
                  <a:srgbClr val="000000"/>
                </a:solidFill>
                <a:latin typeface="Arial"/>
              </a:rPr>
              <a:t>時間と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4</a:t>
            </a:r>
            <a:r>
              <a:rPr b="0" lang="ja-JP" sz="1600" spc="-1" strike="noStrike">
                <a:solidFill>
                  <a:srgbClr val="000000"/>
                </a:solidFill>
                <a:latin typeface="Arial"/>
              </a:rPr>
              <a:t>日に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生徒への質の高い教育を持続的に提供し得る観点か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生徒と接する時間が十分に確保でき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保護者や地域の方にも周知し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取得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時間外在校等時間の多い教職員に月初に指導・助言を行い健康を確保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教育の質の向上という観点から業務の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業務のオンライン化、ペーパーレス化をさらに推進し業務の効率化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ＨＰに掲載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部活動の統廃合や部活動指導員の任用により、教職員の業務負担を軽減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分掌ごとに業務削減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田友哉</cp:lastModifiedBy>
  <cp:lastPrinted>2024-07-10T04:48:51Z</cp:lastPrinted>
  <dcterms:modified xsi:type="dcterms:W3CDTF">2024-07-10T04:58:38Z</dcterms:modified>
  <cp:revision>994</cp:revision>
  <dc:subject/>
  <dc:title>スライド 1</dc:title>
</cp:coreProperties>
</file>