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6AC6-B72B-407B-90E4-E562B4A42B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D7BD-626F-4885-BDF4-C02035468F5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BC320-E863-4D3D-B840-C5DA1236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BCAD-6F5F-46AA-B45C-84B8B415B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74D65-3546-4F31-AADA-8AD824401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344C2-7A20-4291-A4F6-3319C4957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85049-E3C1-47FE-A1C3-18B2BBF2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D2593-7552-46B3-A107-F6AB19C8B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56BCC-0B79-4AE4-A577-9F103B09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49CA8-04CC-45A1-8037-019400FB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F6337-A29C-491D-BE51-08D0CE9C5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EF49-8DF8-45ED-89D9-89170015D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D127-D545-4DAA-A83F-F8E3B147A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AF0B-78D9-4E85-B35B-D5170F5A5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EA1D-2642-4BE4-A5E0-2BB9BFE2476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水沢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協働体制･バックアップ体制による負担軽減及び前例踏襲に依存しない効率化を実現する職場～</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工業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a:t>
            </a:r>
            <a:r>
              <a:rPr b="0" lang="ja-JP" sz="1400" spc="-1" strike="noStrike" u="sng">
                <a:solidFill>
                  <a:srgbClr val="000000"/>
                </a:solidFill>
                <a:uFillTx/>
                <a:latin typeface="Arial"/>
              </a:rPr>
              <a:t>週休日等の部活動除く</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者の段階的縮減</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　４５時間超　Ｒ３：０人　Ｒ４：０人　Ｒ５：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月３６０時間超　Ｒ３：４人　Ｒ４：６人　Ｒ５：４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生徒対応等で、一部の教員に業務が偏る傾向があっ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部活動が行われない期間においては、抵抗感なく定時退庁でき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雰囲気は醸成されてい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7864560" y="9505800"/>
            <a:ext cx="4952880" cy="3225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２日　水沢工業高等学校長　小野寺　訓</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54240"/>
            <a:ext cx="5603760" cy="149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a:t>
            </a:r>
            <a:r>
              <a:rPr b="0" lang="ja-JP" sz="1400" spc="-1" strike="noStrike" u="sng">
                <a:solidFill>
                  <a:srgbClr val="000000"/>
                </a:solidFill>
                <a:uFillTx/>
                <a:latin typeface="Arial"/>
              </a:rPr>
              <a:t>週休日等の部活動含む</a:t>
            </a:r>
            <a:r>
              <a:rPr b="0" lang="ja-JP" sz="1400" spc="-1" strike="noStrike">
                <a:solidFill>
                  <a:srgbClr val="000000"/>
                </a:solidFill>
                <a:latin typeface="Arial"/>
              </a:rPr>
              <a:t>）が月</a:t>
            </a:r>
            <a:r>
              <a:rPr b="0" lang="en-US" sz="1400" spc="-1" strike="noStrike">
                <a:solidFill>
                  <a:srgbClr val="000000"/>
                </a:solidFill>
                <a:latin typeface="Arial"/>
              </a:rPr>
              <a:t>45</a:t>
            </a:r>
            <a:r>
              <a:rPr b="0" lang="ja-JP" sz="1400" spc="-1" strike="noStrike">
                <a:solidFill>
                  <a:srgbClr val="000000"/>
                </a:solidFill>
                <a:latin typeface="Arial"/>
              </a:rPr>
              <a:t>時間超、年</a:t>
            </a:r>
            <a:r>
              <a:rPr b="0" lang="en-US" sz="1400" spc="-1" strike="noStrike">
                <a:solidFill>
                  <a:srgbClr val="000000"/>
                </a:solidFill>
                <a:latin typeface="Arial"/>
              </a:rPr>
              <a:t>3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超の過去３か年</a:t>
            </a:r>
            <a:r>
              <a:rPr b="0" lang="en-US" sz="1400" spc="-1" strike="noStrike">
                <a:solidFill>
                  <a:srgbClr val="000000"/>
                </a:solidFill>
                <a:latin typeface="Arial"/>
              </a:rPr>
              <a:t>(R3</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平均人数から半減してい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　４５時間超　　４人（</a:t>
            </a:r>
            <a:r>
              <a:rPr b="0" lang="en-US" sz="1400" spc="-1" strike="noStrike">
                <a:solidFill>
                  <a:srgbClr val="000000"/>
                </a:solidFill>
                <a:latin typeface="Arial"/>
              </a:rPr>
              <a:t>R7:2</a:t>
            </a:r>
            <a:r>
              <a:rPr b="0" lang="ja-JP" sz="1400" spc="-1" strike="noStrike">
                <a:solidFill>
                  <a:srgbClr val="000000"/>
                </a:solidFill>
                <a:latin typeface="Arial"/>
              </a:rPr>
              <a:t>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月３６０時間超　１０人（</a:t>
            </a:r>
            <a:r>
              <a:rPr b="0" lang="en-US" sz="1400" spc="-1" strike="noStrike">
                <a:solidFill>
                  <a:srgbClr val="000000"/>
                </a:solidFill>
                <a:latin typeface="Arial"/>
              </a:rPr>
              <a:t>R7:</a:t>
            </a:r>
            <a:r>
              <a:rPr b="0" lang="ja-JP" sz="1400" spc="-1" strike="noStrike">
                <a:solidFill>
                  <a:srgbClr val="000000"/>
                </a:solidFill>
                <a:latin typeface="Arial"/>
              </a:rPr>
              <a:t>５人　</a:t>
            </a:r>
            <a:r>
              <a:rPr b="0" lang="en-US" sz="1400" spc="-1" strike="noStrike">
                <a:solidFill>
                  <a:srgbClr val="000000"/>
                </a:solidFill>
                <a:latin typeface="Arial"/>
              </a:rPr>
              <a:t>R8</a:t>
            </a:r>
            <a:r>
              <a:rPr b="0" lang="ja-JP" sz="1400" spc="-1" strike="noStrike">
                <a:solidFill>
                  <a:srgbClr val="000000"/>
                </a:solidFill>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時間外在校等時間月</a:t>
            </a:r>
            <a:r>
              <a:rPr b="0" lang="en-US" sz="1400" spc="-1" strike="noStrike">
                <a:solidFill>
                  <a:srgbClr val="000000"/>
                </a:solidFill>
                <a:latin typeface="Arial"/>
              </a:rPr>
              <a:t>80</a:t>
            </a:r>
            <a:r>
              <a:rPr b="0" lang="ja-JP" sz="1400" spc="-1" strike="noStrike">
                <a:solidFill>
                  <a:srgbClr val="000000"/>
                </a:solidFill>
                <a:latin typeface="Arial"/>
              </a:rPr>
              <a:t>時間超の者を０人とする</a:t>
            </a:r>
            <a:endParaRPr b="0" lang="en-US" sz="1400" spc="-1" strike="noStrike">
              <a:solidFill>
                <a:srgbClr val="000000"/>
              </a:solidFill>
              <a:latin typeface="Arial"/>
            </a:endParaRPr>
          </a:p>
        </p:txBody>
      </p:sp>
      <p:sp>
        <p:nvSpPr>
          <p:cNvPr id="58" name="Rectangle 70"/>
          <p:cNvSpPr/>
          <p:nvPr/>
        </p:nvSpPr>
        <p:spPr>
          <a:xfrm>
            <a:off x="7215120" y="3668760"/>
            <a:ext cx="5591160" cy="1200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のスクラップ＆ビルドに定期的に取り組むとともに、協働化を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りながら、教職員一人ひとりがゆとり感を持って業務に取り組んで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業務に対する充実感や健康面での安心感を得ながら勤務し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8362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各種委員会を通じて、地域・保護者に対してのプラン内容の説明に努め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8620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休暇取得について積極的に呼びかけを行うとともに、自ら積極的に業務に支障のない範囲で取得す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よう努めるなど、取得しやすい職場環境としていき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心理的な負担の程度を把握するため、諸検査の結果を踏まえ改善策を探り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a:t>
                      </a:r>
                      <a:r>
                        <a:rPr b="0" lang="en-US" sz="1400" spc="-1" strike="noStrike">
                          <a:solidFill>
                            <a:srgbClr val="000000"/>
                          </a:solidFill>
                          <a:latin typeface="ＭＳ Ｐゴシック"/>
                        </a:rPr>
                        <a:t>ICT</a:t>
                      </a:r>
                      <a:r>
                        <a:rPr b="0" lang="ja-JP" sz="1400" spc="-1" strike="noStrike">
                          <a:solidFill>
                            <a:srgbClr val="000000"/>
                          </a:solidFill>
                          <a:latin typeface="ＭＳ Ｐゴシック"/>
                        </a:rPr>
                        <a:t>化について、教育における真に必要な観点から業務の見直しを進め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タイムマネジメントを意識した業務計画と部活動指導を目指し、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の週１日以上の休養日設定、年平均週２日以上の休養日設定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働き方改革の取組推進について保護者や地域など関係機関の方々に理解・協力いただけるよう情報発信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休日や祝日の部活動について、外部人材の活用を含めたチーム学校の観点を確立し、業務時間縮減に努めます。</a:t>
                      </a:r>
                      <a:endParaRPr b="0" lang="en-US" sz="14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年平均週１日以上の定時退庁日設定」に取り組み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靖久</cp:lastModifiedBy>
  <cp:lastPrinted>2024-05-02T00:24:22Z</cp:lastPrinted>
  <dcterms:modified xsi:type="dcterms:W3CDTF">2024-05-08T05:01:14Z</dcterms:modified>
  <cp:revision>988</cp:revision>
  <dc:subject/>
  <dc:title>スライド 1</dc:title>
</cp:coreProperties>
</file>