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BF8B-A6FA-4606-903F-A658E6E4CC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79DA-DE59-467D-873E-18C0A4FB0FE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93687-FCCB-460D-87C3-DE0E986A1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5A7FB-0561-47AF-AB4D-E1603D7D1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906CF-88CF-4455-9311-EBA9CAB3C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854B7-3768-4FC1-B2F6-8323D8728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1953D-0D50-4E06-AFF8-65B55BAC1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935EB-EB0A-4F9E-AFA6-711AF3E2C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8E73C-BE0D-44DA-A90E-5DFC6DD5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69F56-3CE9-4BF4-BD25-3F584A65C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B6B74-8295-4BA1-9D3E-EB73521F8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1EB83-98EC-4D70-B236-A009FB582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87AD-B9F6-4549-90BE-9D303E38A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E88EF-1223-4D67-A683-E183B59A2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B969-CF29-430D-A3F9-A0D2D1B4DD0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雫石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点滴穿石」～</a:t>
            </a:r>
            <a:r>
              <a:rPr b="0" i="1" lang="ja-JP" sz="2000" spc="-1" strike="noStrike">
                <a:solidFill>
                  <a:srgbClr val="7f7f7f"/>
                </a:solidFill>
                <a:latin typeface="HGS創英角ｺﾞｼｯｸUB"/>
                <a:ea typeface="HGS創英角ｺﾞｼｯｸUB"/>
              </a:rPr>
              <a:t>小さな取り組みを積み重ね、幸せな職場を創る</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雫石高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0" lang="en-US" sz="1400" spc="-1" strike="noStrike">
                <a:solidFill>
                  <a:srgbClr val="000000"/>
                </a:solidFill>
                <a:latin typeface="Arial"/>
              </a:rPr>
              <a:t>13.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度：</a:t>
            </a:r>
            <a:r>
              <a:rPr b="0" lang="en-US" sz="1400" spc="-1" strike="noStrike">
                <a:solidFill>
                  <a:srgbClr val="000000"/>
                </a:solidFill>
                <a:latin typeface="Arial"/>
              </a:rPr>
              <a:t>11.3</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1</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のアクションプランの取組が全教職員に浸透しているもの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課外活動を担う教職員の時間外勤務が多くならざるをえ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退勤時刻を意識した働き方を推進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随時業務の効率化を図るための見直し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０日　雫石高等学校長　菊池由美子</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0" lang="en-US" sz="1600" spc="-1" strike="noStrike">
                <a:solidFill>
                  <a:srgbClr val="000000"/>
                </a:solidFill>
                <a:latin typeface="Arial"/>
              </a:rPr>
              <a:t>28</a:t>
            </a:r>
            <a:r>
              <a:rPr b="0" lang="ja-JP" sz="1600" spc="-1" strike="noStrike">
                <a:solidFill>
                  <a:srgbClr val="000000"/>
                </a:solidFill>
                <a:latin typeface="Arial"/>
              </a:rPr>
              <a:t>時間以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とす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6</a:t>
            </a:r>
            <a:r>
              <a:rPr b="0" lang="ja-JP" sz="1600" spc="-1" strike="noStrike">
                <a:solidFill>
                  <a:srgbClr val="000000"/>
                </a:solidFill>
                <a:latin typeface="Arial"/>
              </a:rPr>
              <a:t>日以上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生き生きと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および学校通信「穿石」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様々な機会を捉え、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0193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暇・振替等の取得を促進していき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長時間勤務等により疲労の蓄積やストレスを感じている教職員への面談を通</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して心と体の健康状態の把握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会議や分掌業務について、教育において真に必要な観点から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有効活用し、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54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周知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地域連携活動については、役割分担を明確にし、業務内容の適正化を図るよう関係団体</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との協議を進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18400">
                <a:tc gridSpan="2">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重点取組事項</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時間外の外部対応についてシステムの見直し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田友哉</cp:lastModifiedBy>
  <cp:lastPrinted>2024-07-10T02:51:04Z</cp:lastPrinted>
  <dcterms:modified xsi:type="dcterms:W3CDTF">2024-07-10T02:51:27Z</dcterms:modified>
  <cp:revision>986</cp:revision>
  <dc:subject/>
  <dc:title>スライド 1</dc:title>
</cp:coreProperties>
</file>