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4440" y="744480"/>
            <a:ext cx="505764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7A67D-D76D-4F28-8904-9EA1EA3C431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97C7A-468F-4BA9-B9F1-11FB81D708A3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74800" y="744480"/>
            <a:ext cx="5057640" cy="372744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3F38-55AA-42E6-A5D0-B97817260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1534-2A76-4046-99DA-39A4F7B75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8BBA-D68F-4EDB-910B-BFC475E80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E58C-D270-415C-A3C1-D2E0D3314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72AE-4EB0-46E9-A45A-51844F191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AC30-023D-4E0F-83EE-9BAC64865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4D4D-1C9F-4978-8F3C-CC7E6D07D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61D2-B5CD-4A33-B9E1-F5B67CB1E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6B19-C1A5-4066-8C81-5F4195C15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8A72-7A80-4970-B78A-A6934780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D63E-9DE5-4730-978B-233C404E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EFCB-EF16-4682-B823-5606B7DF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A9E24-52FD-4625-84A5-60A3EA9EEA4C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６年度　花北青雲高等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0"/>
          <p:cNvSpPr/>
          <p:nvPr/>
        </p:nvSpPr>
        <p:spPr>
          <a:xfrm>
            <a:off x="1022400" y="4916520"/>
            <a:ext cx="11783880" cy="392040"/>
          </a:xfrm>
          <a:prstGeom prst="rect">
            <a:avLst/>
          </a:prstGeom>
          <a:solidFill>
            <a:srgbClr val="00b0f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３</a:t>
            </a: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（２を達成していくための）具体的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テキスト ボックス 2"/>
          <p:cNvSpPr/>
          <p:nvPr/>
        </p:nvSpPr>
        <p:spPr>
          <a:xfrm>
            <a:off x="592200" y="1133640"/>
            <a:ext cx="127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花北青雲高等学校では、「岩手県教職員働き方改革プラン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4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6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0"/>
          <p:cNvSpPr/>
          <p:nvPr/>
        </p:nvSpPr>
        <p:spPr>
          <a:xfrm>
            <a:off x="1079640" y="1657440"/>
            <a:ext cx="5473440" cy="32288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定量的現状</a:t>
            </a: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◆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「岩手県教職員働き方改革プラン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」目標達成状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時間外在校等時間が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時間以上の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４年度：０人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５年度：０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◆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次休暇の取得状況について（年間一人当たりの平均取得日数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４年度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.8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５年度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.6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定性的現状</a:t>
            </a: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〇　教職員の意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・部活動に意欲的に取り組む生徒・職員が多いため、週休日及び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　日の部活動指導の時間が多くなってい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・退庁時間後も業務を続けている。仕事量の均一化は容易ではな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〇　管理職のマネジメン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・副担任２人制を用い、全教職員で学級運営に携わり担任の負担を　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　軽減する対応を行ってい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正方形/長方形 2"/>
          <p:cNvSpPr/>
          <p:nvPr/>
        </p:nvSpPr>
        <p:spPr>
          <a:xfrm>
            <a:off x="8569440" y="9555120"/>
            <a:ext cx="4952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６年５月１０日　岩手県立花北青雲高等学校長　小松　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7191360" y="1440000"/>
            <a:ext cx="5626080" cy="372960"/>
          </a:xfrm>
          <a:prstGeom prst="rect">
            <a:avLst/>
          </a:prstGeom>
          <a:solidFill>
            <a:srgbClr val="bbe0e3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２　目標・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右矢印 1"/>
          <p:cNvSpPr/>
          <p:nvPr/>
        </p:nvSpPr>
        <p:spPr>
          <a:xfrm>
            <a:off x="6576840" y="2263680"/>
            <a:ext cx="614520" cy="16509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0"/>
          <p:cNvSpPr/>
          <p:nvPr/>
        </p:nvSpPr>
        <p:spPr>
          <a:xfrm>
            <a:off x="7213680" y="2165400"/>
            <a:ext cx="5603760" cy="11253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学校独自の目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教職員の時間外在校時間が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時間以上の者をゼロに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　ることを目指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年次休暇の平均取得日数を１５日とすることを目指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7215120" y="3297240"/>
            <a:ext cx="5591160" cy="15638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目指す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　教職員一人ひとりが、心に余裕をもち、生徒と向き合い丁寧　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　な指導をす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　管理職が日頃から教職員に対し、休暇取得や定時退庁の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　がけをす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　教職員が、家庭のための時間や自由時間を確保できてい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1011240" y="8523360"/>
            <a:ext cx="11806200" cy="33804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４</a:t>
            </a: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アクションプランの周知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0"/>
          <p:cNvSpPr/>
          <p:nvPr/>
        </p:nvSpPr>
        <p:spPr>
          <a:xfrm>
            <a:off x="1022400" y="8861400"/>
            <a:ext cx="11795040" cy="66348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　プランを学校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に掲載し、地域・保護者に対して周知するとともに、教職員には会議等で呼びかけ、確認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・　学校運営協議会等を通じて、地域・委員の方に対してプランの内容の説明を行い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022400" y="5308560"/>
          <a:ext cx="11795040" cy="3264120"/>
        </p:xfrm>
        <a:graphic>
          <a:graphicData uri="http://schemas.openxmlformats.org/drawingml/2006/table">
            <a:tbl>
              <a:tblPr/>
              <a:tblGrid>
                <a:gridCol w="815760"/>
                <a:gridCol w="2016360"/>
                <a:gridCol w="8962920"/>
              </a:tblGrid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（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1</a:t>
                      </a: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）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教職員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健康管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管理職が、休暇取得について積極的に呼びかけを行います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月の時間外在校等時間が月途中で４０時間超となった教職員に声掛けをします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22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（２）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学校における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業務改善の推進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欠席・遅刻の把握や学校行事等のお知らせは、一斉メールを活用し、教職員や保護者の連絡時間の　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　負担を軽減します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部活動の休養日を月に１回以上は週休日に設定し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HP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でお知らせします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69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（３）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業務の明確化・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適正化の推進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働き方改革の取組について、保護者や地域の方に理解いただけるよう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HP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にアクションプランを掲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　します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休日の部活動については、顧問間で分担したり外部コーチ等の協力をいただきながら指導にあたり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　ます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06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令和６年度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重点取組事項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令和６年度から新たに「週休日の振替」を積極的に活用します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61" name="テキスト ボックス 2"/>
          <p:cNvSpPr/>
          <p:nvPr/>
        </p:nvSpPr>
        <p:spPr>
          <a:xfrm>
            <a:off x="7191360" y="1819440"/>
            <a:ext cx="577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県の働き方改革プランの目標を前提に、以下の目標を設定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小原　桂</cp:lastModifiedBy>
  <cp:lastPrinted>2024-05-09T07:17:45Z</cp:lastPrinted>
  <dcterms:modified xsi:type="dcterms:W3CDTF">2024-05-10T03:13:57Z</dcterms:modified>
  <cp:revision>988</cp:revision>
  <dc:subject/>
  <dc:title>スライド 1</dc:title>
</cp:coreProperties>
</file>