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3000" y="742680"/>
            <a:ext cx="505152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716360"/>
            <a:ext cx="5441760" cy="4469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45B3-F04B-46B3-9146-9A5811F8C59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4452-7537-4A00-BF3F-1E01F2672947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873000" y="743040"/>
            <a:ext cx="5051520" cy="37242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77880" y="4716360"/>
            <a:ext cx="54417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0B2E-8416-436E-9147-810CD75D2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2349-0DC4-40B6-9B1B-544C7EA3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B133-71B8-4A38-B3A6-A7775E89E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0F0F-925D-464B-BF84-72913D3BB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7125-E75E-4131-9E76-BC428577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7539-4851-412F-BC47-94019483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3E2C-93B6-4711-9A7C-4A0B19D6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3AA6-3AAD-4B0F-ACBC-04970C3C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C87F-35DF-4A9F-B5B4-BD506858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86E8-FAB9-43DD-91A7-C7057AD5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F5D2-4DD5-4688-BB5F-BC255400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634E-7947-4E5C-8BFB-A529F6E4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CD16-3530-429C-9A1D-E86FBB313AC8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23" descr=""/>
          <p:cNvPicPr/>
          <p:nvPr/>
        </p:nvPicPr>
        <p:blipFill>
          <a:blip r:embed="rId1"/>
          <a:stretch/>
        </p:blipFill>
        <p:spPr>
          <a:xfrm>
            <a:off x="1200240" y="85680"/>
            <a:ext cx="11558520" cy="1023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79640" y="1463760"/>
            <a:ext cx="5473440" cy="33156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22400" y="5046840"/>
            <a:ext cx="11783880" cy="414000"/>
          </a:xfrm>
          <a:prstGeom prst="rect">
            <a:avLst/>
          </a:prstGeom>
          <a:solidFill>
            <a:srgbClr val="00b0f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３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（２を達成していくための）具体的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2"/>
          <p:cNvSpPr/>
          <p:nvPr/>
        </p:nvSpPr>
        <p:spPr>
          <a:xfrm>
            <a:off x="1049400" y="1101600"/>
            <a:ext cx="1191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宮古高校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6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806480"/>
            <a:ext cx="5473440" cy="30798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量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◆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目標達成状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・　時間外在校等時間が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以上の教職員の割合（％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　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Ｒ４年度０％、Ｒ５年度：０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・　時間外在校等時間（週休日の部活動指導従事時間を除く）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 月４５時間以上の延べ数の割合 　 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Ｒ４年度：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2.7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％、Ｒ５年度：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18.0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・　時間外在校等時間（週休日の部活動指導従事時間を除く）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 年３６０時間以上の教職員の割合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Ｒ４年度：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52.6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％、Ｒ５年度：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39.3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◆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次休暇の取得状況について（年間一人当たりの平均取得日数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Ｒ４年：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12.9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日、Ｒ５年：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14.9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性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上記の結果から、教職員の意識は向上し働き方改革が進んでい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 といえるが、時間外在校等時間の値は高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正方形/長方形 2"/>
          <p:cNvSpPr/>
          <p:nvPr/>
        </p:nvSpPr>
        <p:spPr>
          <a:xfrm>
            <a:off x="8569440" y="9493200"/>
            <a:ext cx="4952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６年５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月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17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日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　岩手県立宮古高等学校長　髙　橋　　　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7191360" y="1440000"/>
            <a:ext cx="5626080" cy="372960"/>
          </a:xfrm>
          <a:prstGeom prst="rect">
            <a:avLst/>
          </a:prstGeom>
          <a:solidFill>
            <a:srgbClr val="bbe0e3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２　目標・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右矢印 1"/>
          <p:cNvSpPr/>
          <p:nvPr/>
        </p:nvSpPr>
        <p:spPr>
          <a:xfrm>
            <a:off x="6576840" y="2263680"/>
            <a:ext cx="614520" cy="16509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7213680" y="2165400"/>
            <a:ext cx="5603760" cy="12398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学校独自の目標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時間外在校等時間（週休日の部活動指導従事時間を含む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が月４５時間以上の延べ数の割合を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.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％以下に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　　　　　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年度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.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％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年次休暇の平均取得日数を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日以上に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7215120" y="3433680"/>
            <a:ext cx="5591160" cy="14274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目指す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教職員が心身ともに健康で充実感を得ながら働くことが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きる職場環境づくりの観点から、一人ひとりが働き方改革を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識し、継続的に実践してい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教職員が、家庭のための時間や自由時間を確保できてい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0"/>
          <p:cNvSpPr/>
          <p:nvPr/>
        </p:nvSpPr>
        <p:spPr>
          <a:xfrm>
            <a:off x="1011240" y="8474040"/>
            <a:ext cx="11806200" cy="38736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４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アクションプランの周知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1022400" y="8861400"/>
            <a:ext cx="11795040" cy="6303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　アクションプランを学校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掲載し、広く周知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　教職員に対しては、職員会議を通じて周知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022400" y="5448240"/>
          <a:ext cx="11795040" cy="2925720"/>
        </p:xfrm>
        <a:graphic>
          <a:graphicData uri="http://schemas.openxmlformats.org/drawingml/2006/table">
            <a:tbl>
              <a:tblPr/>
              <a:tblGrid>
                <a:gridCol w="815760"/>
                <a:gridCol w="2016360"/>
                <a:gridCol w="8962920"/>
              </a:tblGrid>
              <a:tr h="914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1</a:t>
                      </a: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教職員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健康管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管理職が長時間勤務の教職員と面談しながら、勤務時間の適正化に取り組み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年次休暇等を活用しやすい環境整備に努め、教職員が心身ともに健康で働くことがで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る職場環境づくりを推進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２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学校における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改善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校務運営委員会等を活用しながら、業務の見直し、改善を進め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ＩＣＴの積極的活用を図りながら、業務量の軽減を進め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３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の明確化・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適正化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勤務時間外の業務の適正化に向け、関係団体や保護者と協議を進め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留守番電話を有効活用しながら、教職員の勤務時間外業務の適正化を進め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令和６年度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重点取組事項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令和６年度から新たに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ICT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を活用した自動採点システムを導入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62" name="テキスト ボックス 2"/>
          <p:cNvSpPr/>
          <p:nvPr/>
        </p:nvSpPr>
        <p:spPr>
          <a:xfrm>
            <a:off x="7191360" y="1819440"/>
            <a:ext cx="57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県の働き方改革プランの目標を前提に、以下の目標を設定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及川　玲一郎</cp:lastModifiedBy>
  <cp:lastPrinted>2024-05-17T03:15:29Z</cp:lastPrinted>
  <dcterms:modified xsi:type="dcterms:W3CDTF">2024-05-17T06:21:04Z</dcterms:modified>
  <cp:revision>998</cp:revision>
  <dc:subject/>
  <dc:title>スライド 1</dc:title>
</cp:coreProperties>
</file>