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2680"/>
            <a:ext cx="50515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8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336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90FE-3622-443E-9E20-3190DB3CEE7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198F-67F1-4244-91BC-17C938B9191E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873000" y="743040"/>
            <a:ext cx="5051520" cy="372276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1D6C-949E-4211-B2AF-75A36C2FB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5A41-C39E-4CE7-833C-DE031583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FC15-44BD-4A5B-8699-CD340DFC7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D86E-606C-4E43-8EBF-7A08C9ED8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348D-2017-47D7-B4BF-27C7283E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3FE4-E345-45A5-A657-5368804A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CC24-E053-48E5-AB18-90AE7939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15D0-82B8-4CBF-ABA5-162BCC5D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5BF0-F59F-42CA-A6CB-40D9235A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D734-19A2-4F06-83D7-22CF1E4C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8208-491B-48A8-8412-AC7C6EAA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3E32-FF68-4DB6-A848-EB1CBDB6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4431-15E4-423F-AB5A-357F6DE1A342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６年度　一関清明支援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r>
              <a:rPr b="0" i="1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明るく働きやすい職場づくり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63760"/>
            <a:ext cx="5473440" cy="33156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22400" y="5046840"/>
            <a:ext cx="11783880" cy="41400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３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576360" y="1101600"/>
            <a:ext cx="126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一関清明支援学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06480"/>
            <a:ext cx="5473440" cy="30798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量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前プランの期間を通し、月８０時間超の職員ゼ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◆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超の職員は毎年その前年度から半減。年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36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超の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員も年ごとに減少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性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本校の特徴による課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四障がい種に対応し、多様な児童生徒が在籍しているため、職員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間の打合せや研修、授業準備等に時間が必要な状況があ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２校舎３分教室の連携を図るため、職員間の連絡調整が欠かせず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日々の業務が増え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職員の意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施錠時間を意識した業務推進が行われ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正方形/長方形 2"/>
          <p:cNvSpPr/>
          <p:nvPr/>
        </p:nvSpPr>
        <p:spPr>
          <a:xfrm>
            <a:off x="9361440" y="9524880"/>
            <a:ext cx="34560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６年５月●日　一関清明支援学校長　外舘　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7191360" y="1440000"/>
            <a:ext cx="5626080" cy="37296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右矢印 1"/>
          <p:cNvSpPr/>
          <p:nvPr/>
        </p:nvSpPr>
        <p:spPr>
          <a:xfrm>
            <a:off x="6576840" y="2263680"/>
            <a:ext cx="614520" cy="16509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13680" y="2165400"/>
            <a:ext cx="5603760" cy="12398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学校独自の目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時間外在校等時間が月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時間超の職員、年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36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時間超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職員を前年度から減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「教職員が意思疎通を図りながら働きやすい職場環境の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備に努めている」教職員の割合が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9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パーセント以上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15120" y="3433680"/>
            <a:ext cx="5591160" cy="14274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児童生徒が楽しく学ぶ学校環境づくりを実現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がやりがいをもち、有用感を感じながら働く職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がお互いにコミュニケーションを取り、助け合える職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管理職が教職員に目を配り、教職員が安心して働ける職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1011240" y="8474040"/>
            <a:ext cx="11806200" cy="3873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４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アクションプランの周知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1022400" y="8861400"/>
            <a:ext cx="11795040" cy="6303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　職員会議で周知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学校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掲載し周知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22400" y="5448240"/>
          <a:ext cx="11795040" cy="2925720"/>
        </p:xfrm>
        <a:graphic>
          <a:graphicData uri="http://schemas.openxmlformats.org/drawingml/2006/table">
            <a:tbl>
              <a:tblPr/>
              <a:tblGrid>
                <a:gridCol w="815760"/>
                <a:gridCol w="2016360"/>
                <a:gridCol w="8962920"/>
              </a:tblGrid>
              <a:tr h="914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1</a:t>
                      </a: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教職員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健康管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管理職は職員の勤務時間外状況を把握し、面談等を通し、職員の健康管理に努め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時間外在校等時間が月の途中で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5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時間超となった職員に声掛けし、業務の状況を確認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したり、面談をしたり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２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学校におけ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改善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管理職、職員ともに引き続き校内業務の見直し、改善に努め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デスクネッツ回議やオンライン会議を推奨、推進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３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の明確化・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適正化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関係団体に係る教職員の業務内容の検討を進め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地域の特別支援教育推進に係る業務について、関係機関との協議を進め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令和６年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重点取組事項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毎月の衛生委員会・職員会議で、前の月の学部・分教室ごとのタイムカード集計結果を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表し、勤務時間への意識をより高められるように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2" name="テキスト ボックス 2"/>
          <p:cNvSpPr/>
          <p:nvPr/>
        </p:nvSpPr>
        <p:spPr>
          <a:xfrm>
            <a:off x="7191360" y="1819440"/>
            <a:ext cx="57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県の働き方改革プランの目標を前提に、以下の目標を設定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安久都　靖</cp:lastModifiedBy>
  <cp:lastPrinted>2024-05-01T04:34:58Z</cp:lastPrinted>
  <dcterms:modified xsi:type="dcterms:W3CDTF">2024-05-01T06:09:12Z</dcterms:modified>
  <cp:revision>987</cp:revision>
  <dc:subject/>
  <dc:title>スライド 1</dc:title>
</cp:coreProperties>
</file>