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AE15-5E88-4C90-91D2-B0B32632A3C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5CED-B4B9-4319-A5B2-AC15DB68C18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787-70D6-4B8A-8B02-D5BF1C95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801-71BC-4E12-8CF0-28693006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9CF-48F6-43C5-B9B9-F954B41D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E09-8BC6-4079-BBC7-BFA7DEDC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308-3E03-4749-98FD-CD4A4758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270-108C-46CE-9324-E660C34C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D1A-5F97-47FD-BB76-F791A212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C8E-BBD2-4DA1-A5DE-A895F7EC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0B7-7C5D-4D47-ABF3-A7E7344B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FFA-2A42-45DB-B95E-2A1F2B7D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BBD-789C-4789-A9D7-0159D6A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C13-2B26-49FE-9EC6-4355D99C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ACE5-115B-453D-B6BB-2E8DFD1493A3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盛岡峰南高等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学年・学科・各部が連携して推進する「チーム峰南」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5991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時間外在校等時間→一人あたり年間平均で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時間外在校等時間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時間外在校等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年次休暇の取得日数→一人あたり年間平均取得日数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以上、１日単位の年次取得５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毎週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の定時退庁日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192720"/>
            <a:ext cx="712944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10796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盛岡峰南高等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県内唯一の専門学科が設置された高等支援学校であり、県内全域から生徒が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進路支援業務、課外活動（週休日における大会やそれに向けた練習、専門教科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習で製作した製品の展示、販売対応等）、県内各圏域におけるＰＴＡ活動対応等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移動距離や対応回数、時間的負担も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関係各所の本校教育への関心が高く、学校見学や入学相談の依頼件数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の教育理念である「生きがいある豊かな生活の実現」を目指し、各教職員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使命感を持って日常の業務を遂行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402912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5108400" y="402912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064360" y="756144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令和６年５月１日　盛岡峰南高等支援学校長　矢鳴　慶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生徒が、学校に通うことが楽しいと感じることができる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が、達成感、有用感を感じ、教育の楽しさを実感しながら各学年、学科が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携して、業務を推進するチームとしての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各教職員が自分のライフプラン、ミッションを意識化し業務を推進する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健全（健康・安心・安全）な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72720" y="399240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5108400" y="4352760"/>
            <a:ext cx="39546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が円滑に進むように、資料データの整理と見直し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行い、作成の簡略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現状の校内業務のスクラップ＆ビルド等について随時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討し、より効果的な業務運営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の効率化につながるように、組織のあり方を検証しな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ら、必要な改変を視野に入れて業務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様々な事案の未然防止、適切な初期対応ができるよう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告・連絡・相談の徹底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9063000" y="4352760"/>
            <a:ext cx="374976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が事務局を担当する他の支援学校が関わる諸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議等において、連絡調整等の効率化を図るために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校間における連携協力の一層の充実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支援学校のセンター的機能に係る取組について、依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校や関係機関等のニーズを把握し、組織としての適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対応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1079640" y="4352760"/>
            <a:ext cx="40194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勤務時間の正確な把握の取組を確実に実施し、業務の優先順位を見極めながら、長時間勤務の軽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毎月の時間外在校等時間を各人に知らせ、時間外勤務状況を意識し、縮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年間を通じた計画的な業務推進により、繁忙期の時間外勤務時間の縮減と、多忙感の低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管理職が、教職員の健康管理について　積極的に面談や声掛けをするなど、メンタルヘルスを含めた健康状態の把握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衛生委員会等において、職場環境の在り方や健康保持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いて意見交換を行い、職場環境の整備を図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109520" y="7837560"/>
            <a:ext cx="11738160" cy="217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２０２４～２０２６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令和６年度～令和８年度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〈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量的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〉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128000" y="7915320"/>
            <a:ext cx="571968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含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段階的に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6951600" y="9072720"/>
            <a:ext cx="5854680" cy="86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定性的目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〉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への充実感や、健康面での安心感の向上、教職員のウェルビーイングの確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８年度において、目標に関連するアンケート項目の肯定的実感が令和６年度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366084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48760" y="8404200"/>
          <a:ext cx="3095640" cy="68112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６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4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前年度（令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5</a:t>
                      </a: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）実績より減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髙橋　奈津子</cp:lastModifiedBy>
  <cp:lastPrinted>2024-05-01T01:38:30Z</cp:lastPrinted>
  <dcterms:modified xsi:type="dcterms:W3CDTF">2024-05-02T00:15:07Z</dcterms:modified>
  <cp:revision>970</cp:revision>
  <dc:subject/>
  <dc:title>スライド 1</dc:title>
</cp:coreProperties>
</file>