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78F4-7419-4E96-87A3-95A1175F99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73B0-F2B3-488F-ACE7-401320D1155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98E8A-9AF5-4F1D-ADED-4DA08AAB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0569-00ED-40D8-AC53-5E9D21F3C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836F3-2047-4E3E-8D9F-34E2BD97E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24107-1A24-4B7E-BA9C-0EF2FA15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3BF41-E8E1-4317-8561-232F9E9CB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5FE1-6323-42C7-A2EC-A7CBF989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161D-385D-4E0E-B723-851BB324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76A78-E12A-4ED2-9AB6-AB7232BDF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C6CA-3F7E-4EB2-9B2E-EE9D2FCFD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EE5F-85E7-460E-99D2-FA23950C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5872A-1BB1-4910-8ADC-083768BA6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C957-AE7B-4441-AF20-0729AA672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D7D4-D9B2-4C47-BD8F-3C177B9DB97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ひがし支援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357200" y="1101600"/>
            <a:ext cx="1144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ひがし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140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時間外在校時間が年間平均３０時間以上の教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9</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21.6</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6</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5.4</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6.5</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8</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として一人一人の業務マネジメント意識は高まっ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おおよそ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的な業務推進の意識づけや定時退庁等の呼びかけを状況に応じ適切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42472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rPr>
              <a:t>令和６年５月１日　盛岡ひがし支援学校長　黒川　圭司</a:t>
            </a:r>
            <a:endParaRPr b="0" lang="en-US" sz="14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Rectangle 70"/>
          <p:cNvSpPr/>
          <p:nvPr/>
        </p:nvSpPr>
        <p:spPr>
          <a:xfrm>
            <a:off x="7172280" y="2165400"/>
            <a:ext cx="56595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月平均</a:t>
            </a:r>
            <a:r>
              <a:rPr b="0" lang="en-US" sz="1600" spc="-1" strike="noStrike">
                <a:solidFill>
                  <a:srgbClr val="000000"/>
                </a:solidFill>
                <a:latin typeface="Arial"/>
              </a:rPr>
              <a:t>30</a:t>
            </a:r>
            <a:r>
              <a:rPr b="0" lang="ja-JP" sz="1600" spc="-1" strike="noStrike">
                <a:solidFill>
                  <a:srgbClr val="000000"/>
                </a:solidFill>
                <a:latin typeface="Arial"/>
              </a:rPr>
              <a:t>時間以上の時間外在校時間職員の割合を</a:t>
            </a:r>
            <a:r>
              <a:rPr b="0" lang="en-US" sz="1600" spc="-1" strike="noStrike">
                <a:solidFill>
                  <a:srgbClr val="000000"/>
                </a:solidFill>
                <a:latin typeface="Arial"/>
              </a:rPr>
              <a:t>10</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台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a:t>
            </a:r>
            <a:r>
              <a:rPr b="0" lang="en-US" sz="1600" spc="-1" strike="noStrike">
                <a:solidFill>
                  <a:srgbClr val="000000"/>
                </a:solidFill>
                <a:latin typeface="Arial"/>
              </a:rPr>
              <a:t>19</a:t>
            </a:r>
            <a:r>
              <a:rPr b="0" lang="ja-JP" sz="1600" spc="-1" strike="noStrike">
                <a:solidFill>
                  <a:srgbClr val="000000"/>
                </a:solidFill>
                <a:latin typeface="Arial"/>
              </a:rPr>
              <a:t>日を維持できるよう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めます。</a:t>
            </a:r>
            <a:endParaRPr b="0" lang="en-US" sz="1600" spc="-1" strike="noStrike">
              <a:solidFill>
                <a:srgbClr val="000000"/>
              </a:solidFill>
              <a:latin typeface="Arial"/>
            </a:endParaRPr>
          </a:p>
        </p:txBody>
      </p:sp>
      <p:sp>
        <p:nvSpPr>
          <p:cNvPr id="57" name="Rectangle 70"/>
          <p:cNvSpPr/>
          <p:nvPr/>
        </p:nvSpPr>
        <p:spPr>
          <a:xfrm>
            <a:off x="7172280" y="3433680"/>
            <a:ext cx="5634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計画性をもった業務推進の意識が定着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を感じ協働意識をもちながら意欲的に仕事に取り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休暇制度を有効に活用し、家庭や自分自身の生活スタイルの安定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ための時間を確保できている。</a:t>
            </a:r>
            <a:endParaRPr b="0" lang="en-US" sz="12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休暇取得促進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必要に応じて個別の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の職員会議については</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会議開催を基本とし、関連資料等のデータ化を推進して印刷業務の大幅な縮減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報告・連絡・相談」の業務基本姿勢を徹底し、責任の所在を明確に示すとともに、計画的な業務推進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より、年間複数回の各学部定時退庁日を設定するよう働きかけ、教職員の業務マネジメント意識の向上に取り組むとともに、長期休業中の定時退庁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黒川　圭司</cp:lastModifiedBy>
  <cp:lastPrinted>2024-05-02T07:17:40Z</cp:lastPrinted>
  <dcterms:modified xsi:type="dcterms:W3CDTF">2024-05-02T07:31:22Z</dcterms:modified>
  <cp:revision>989</cp:revision>
  <dc:subject/>
  <dc:title>スライド 1</dc:title>
</cp:coreProperties>
</file>