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5A66-3826-479A-8512-F8919297902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0714-FBFD-42BA-B013-1215F4520BB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9BB70-1F3F-4C65-817A-8A1E8663C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BC362-418E-4082-9754-9761D8E6B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6B367-CBE4-41BD-B6D3-EDB244F0E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78628-C666-4390-820A-3B14E1A61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EABCF-38D5-4C0A-8C52-52EC1363E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DD908-96C8-40B6-A766-A6AD3E41B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BAA85-4CC2-4BDD-AF8C-1D0E23998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21181-2C11-4BE6-9608-9B0357764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9C8B5-8EA6-4067-A149-FF7A1435C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905B7-5A9A-42A8-91DE-2FC9C5E0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59F47-58A6-4CED-950E-883F9BDA4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14CB6-E33E-48DF-B748-7AACA7222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1A68-6AC9-4D5B-A67D-89D928BD6E89}"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大野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持続可能」な働き方を目指して</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071720" y="1069920"/>
            <a:ext cx="1162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大野高等学校で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6</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少ない教職員数で分担し、各自が多様な業務に取り組んでおり、</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負担を感じている教職員が少なくな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慣例の見直しを軸とした業務のスクラップアンドビルド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742240" y="9540720"/>
            <a:ext cx="49532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５日　大野高等学校長　千葉　美春</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5120" y="2111400"/>
            <a:ext cx="5604120" cy="1057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ja-JP" sz="1500" spc="-1" strike="noStrike">
                <a:solidFill>
                  <a:srgbClr val="000000"/>
                </a:solidFill>
                <a:latin typeface="Arial"/>
              </a:rPr>
              <a:t>学校独自の目標</a:t>
            </a:r>
            <a:r>
              <a:rPr b="0" lang="en-US"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　時間外在校等時間（週休日の部活動従事時間を除く）が、</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年</a:t>
            </a:r>
            <a:r>
              <a:rPr b="0" lang="en-US" sz="1500" spc="-1" strike="noStrike">
                <a:solidFill>
                  <a:srgbClr val="000000"/>
                </a:solidFill>
                <a:latin typeface="Arial"/>
              </a:rPr>
              <a:t>300</a:t>
            </a:r>
            <a:r>
              <a:rPr b="0" lang="ja-JP" sz="1500" spc="-1" strike="noStrike">
                <a:solidFill>
                  <a:srgbClr val="000000"/>
                </a:solidFill>
                <a:latin typeface="Arial"/>
              </a:rPr>
              <a:t>時間超の教職員ゼロを目指します。</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t>
            </a:r>
            <a:r>
              <a:rPr b="0" lang="ja-JP" sz="1500" spc="-1" strike="noStrike">
                <a:solidFill>
                  <a:srgbClr val="000000"/>
                </a:solidFill>
                <a:latin typeface="Arial"/>
              </a:rPr>
              <a:t>　年次休暇の取得日数を全職員が</a:t>
            </a:r>
            <a:r>
              <a:rPr b="0" lang="en-US" sz="1500" spc="-1" strike="noStrike">
                <a:solidFill>
                  <a:srgbClr val="000000"/>
                </a:solidFill>
                <a:latin typeface="Arial"/>
              </a:rPr>
              <a:t>10</a:t>
            </a:r>
            <a:r>
              <a:rPr b="0" lang="ja-JP" sz="1500" spc="-1" strike="noStrike">
                <a:solidFill>
                  <a:srgbClr val="000000"/>
                </a:solidFill>
                <a:latin typeface="Arial"/>
              </a:rPr>
              <a:t>日以上にします。</a:t>
            </a:r>
            <a:endParaRPr b="0" lang="en-US" sz="1500" spc="-1" strike="noStrike">
              <a:solidFill>
                <a:srgbClr val="000000"/>
              </a:solidFill>
              <a:latin typeface="Arial"/>
            </a:endParaRPr>
          </a:p>
        </p:txBody>
      </p:sp>
      <p:sp>
        <p:nvSpPr>
          <p:cNvPr id="58" name="Rectangle 70"/>
          <p:cNvSpPr/>
          <p:nvPr/>
        </p:nvSpPr>
        <p:spPr>
          <a:xfrm>
            <a:off x="7215120" y="3228840"/>
            <a:ext cx="5591160" cy="1695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ja-JP" sz="1500" spc="-1" strike="noStrike">
                <a:solidFill>
                  <a:srgbClr val="000000"/>
                </a:solidFill>
                <a:latin typeface="Arial"/>
              </a:rPr>
              <a:t>目指す姿</a:t>
            </a:r>
            <a:r>
              <a:rPr b="0" lang="en-US" sz="1500" spc="-1" strike="noStrike">
                <a:solidFill>
                  <a:srgbClr val="000000"/>
                </a:solidFill>
                <a:latin typeface="Arial"/>
              </a:rPr>
              <a:t>】</a:t>
            </a:r>
            <a:r>
              <a:rPr b="0" lang="ja-JP"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教職員一人ひとりが、やりがいを感じながら業務に取り組んで</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ja-JP" sz="1500" spc="-1" strike="noStrike">
                <a:solidFill>
                  <a:srgbClr val="000000"/>
                </a:solidFill>
                <a:latin typeface="Arial"/>
              </a:rPr>
              <a:t>い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お互いの業務を理解・サポートし合いながら、更なる業務改善に</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ja-JP" sz="1500" spc="-1" strike="noStrike">
                <a:solidFill>
                  <a:srgbClr val="000000"/>
                </a:solidFill>
                <a:latin typeface="Arial"/>
              </a:rPr>
              <a:t>取り組んでい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　ワークライフバランスをとりながら、ゆとりと思いやりを持って同僚</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ja-JP" sz="1500" spc="-1" strike="noStrike">
                <a:solidFill>
                  <a:srgbClr val="000000"/>
                </a:solidFill>
                <a:latin typeface="Arial"/>
              </a:rPr>
              <a:t>や生徒に接している。</a:t>
            </a:r>
            <a:endParaRPr b="0" lang="en-US" sz="15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通信を通じて、地域・保護者に対して周知し、理解を求め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や振替の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産業医の保健指導やメンタルヘルス相談等の活用を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種行事等について、教育において真に必要な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外部機関を積極的に活用し、教職員の負担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主任間で業務内容、進捗状況を確認し、業務の見える化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地域やＰＴＡ、同窓会等との連携を図り、協力を求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ノー残業デー」（平日のうちのいずれか１日を各自設定）に取り</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美春</cp:lastModifiedBy>
  <cp:lastPrinted>2024-05-10T06:46:16Z</cp:lastPrinted>
  <dcterms:modified xsi:type="dcterms:W3CDTF">2024-05-16T00:31:35Z</dcterms:modified>
  <cp:revision>991</cp:revision>
  <dc:subject/>
  <dc:title>スライド 1</dc:title>
</cp:coreProperties>
</file>