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2680"/>
            <a:ext cx="5051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336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9555-2573-4F26-A56F-F25B9C1D789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1409-7BD9-485B-BE72-4A9FE4358A50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3000" y="743040"/>
            <a:ext cx="5051520" cy="37227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0E38-3850-4CBA-AE7F-7213FCFD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9085-0310-4387-B62B-BE021F93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6795-4E77-4902-8459-867A189B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D38-0EAB-4C7D-B010-F2A26A8D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E9F1-0B05-4230-ACB6-1569B836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599-3F29-4FDA-9848-5271F664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F3D-3885-4196-9CB1-4A756CC8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D0B-180A-46DB-A1D2-DCD88E2D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D2D7-CB2D-4AA6-9467-23FCDF8A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B40B-AD58-4A9C-9DA3-E75D13C1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2F9-AF60-4A53-95D1-2586E097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8AEB-E20F-47F8-9552-68BB126C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CF53-2C39-4730-B7B3-0FDC6515594B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岩谷堂高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健康で文化的な生活のために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792000" y="1101600"/>
            <a:ext cx="120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岩谷堂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０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０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１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次休暇の取得状況について（年間一人当たりの平均取得日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１４．６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１５．０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１６．１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長時間の時間外勤務が常態化している教職員も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献身的に業務を行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職員との面談を通して、業務見直し等の対応を行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9001080" y="9524880"/>
            <a:ext cx="4952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１４日　岩谷堂高等学校長　山影　稔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10825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時間外在校等時間が月８０時間以上の者を０人にすること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 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年次休暇の平均取得日数を１７日に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290760"/>
            <a:ext cx="5591160" cy="1570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こどもたちへの質の高い教育を持続的に提供し得る観点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ら働き方の見直しについて職員全体で考え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授業や授業準備に集中できている。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業務にやりがいを感じ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自身や家庭の時間を確保でき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プランを会議等を通じて教職員にも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学校のｎｏｔｅ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通じて、地域・保護者に対してプランの内容を紹介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5596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が、年次休暇取得について積極的に呼びかけ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週１回以上の定時退庁の取組を実施し、教職員の健康を確保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分掌組織や部活動の見直しを図り、業務の効率化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学校行事や業務のスリム化を図り、ゆとりのある学校運営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年度途中においても分掌内の役割分担を見直し、業務の平準化を目指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働き方改革の取組について、ｎｏｔｅ等を活用して保護者や地域の方に周知を行います。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14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月の時間外在校等時間を月頭（先月分）と月途中の分を職員に知らせることで、在校等時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　間が長い教職員に声掛けし、健康確保の観点から、在校時間短縮の方策を検討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新たに、留守番電話の運用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佐々木　直人</cp:lastModifiedBy>
  <cp:lastPrinted>2024-05-09T05:41:08Z</cp:lastPrinted>
  <dcterms:modified xsi:type="dcterms:W3CDTF">2024-05-10T04:49:57Z</dcterms:modified>
  <cp:revision>996</cp:revision>
  <dc:subject/>
  <dc:title>スライド 1</dc:title>
</cp:coreProperties>
</file>