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8A1C-B7C0-4894-9040-504933C45F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0D5E-EE48-4BF4-83BC-D4AC917E533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D6447-0719-4A47-B9C4-2D646C260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12E84-C165-4F7E-9ED5-4DAD626FF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95BF4-4D71-4995-9F76-66BB7201C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F4D37-BF45-48FC-B6B7-37EA6992F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60A6-1236-492D-BE1E-DCA0D31CB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2E528-DC5F-4B06-8819-7C9604C28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622C4-ACFC-42E4-A257-68E5EE136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CAA4-CC4F-4518-A674-F23334CCB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AF24B-08A1-4580-AB67-DEAFA90F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126B-63B2-4687-93A5-F3D71E682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142D5-620E-492B-BC88-4D699434B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C975-1740-48CB-8D44-0EC1D9EFE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5F4D-7276-447E-9AD2-7B03738B2BE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大船渡東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職員間が互いに認め合う気風を醸成し、業務改善へ～</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船渡東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年次取得へ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２日　大船渡東高等学校長　宇夫方  聰</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45</a:t>
            </a:r>
            <a:r>
              <a:rPr b="0" lang="ja-JP" sz="1600" spc="-1" strike="noStrike">
                <a:solidFill>
                  <a:srgbClr val="000000"/>
                </a:solidFill>
                <a:latin typeface="Arial"/>
              </a:rPr>
              <a:t>時間以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8</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計画的に年次休暇、特別休暇等を取得できる環境があ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充実感を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一人に業務が集中しないように業務を分散する気風があ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HP</a:t>
            </a:r>
            <a:r>
              <a:rPr b="0" lang="ja-JP" sz="1800" spc="-1" strike="noStrike">
                <a:solidFill>
                  <a:srgbClr val="000000"/>
                </a:solidFill>
                <a:latin typeface="Arial"/>
              </a:rPr>
              <a:t>、ＰＴＡ、学校運営協議会委員を通じて、地域・保護者に対してプランの周知を行います。</a:t>
            </a:r>
            <a:endParaRPr b="0" lang="en-US" sz="1800" spc="-1" strike="noStrike">
              <a:solidFill>
                <a:srgbClr val="000000"/>
              </a:solidFill>
              <a:latin typeface="Arial"/>
            </a:endParaRPr>
          </a:p>
        </p:txBody>
      </p:sp>
      <p:graphicFrame>
        <p:nvGraphicFramePr>
          <p:cNvPr id="61" name=""/>
          <p:cNvGraphicFramePr/>
          <p:nvPr/>
        </p:nvGraphicFramePr>
        <p:xfrm>
          <a:off x="1015920" y="4915080"/>
          <a:ext cx="11795040" cy="3443040"/>
        </p:xfrm>
        <a:graphic>
          <a:graphicData uri="http://schemas.openxmlformats.org/drawingml/2006/table">
            <a:tbl>
              <a:tblPr/>
              <a:tblGrid>
                <a:gridCol w="816120"/>
                <a:gridCol w="201600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４５時間超となった教職員に声掛けし、健康確保の観</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点から、早い退庁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の開催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資料や連絡は紙での配付を廃止しフォルダ閲覧やメール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ＰＴＡや学校運営</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a:t>
                      </a:r>
                      <a:r>
                        <a:rPr b="0" lang="ja-JP" sz="1800" spc="-1" strike="noStrike">
                          <a:solidFill>
                            <a:srgbClr val="000000"/>
                          </a:solidFill>
                          <a:latin typeface="ＭＳ Ｐゴシック"/>
                        </a:rPr>
                        <a:t>協議会委員と協力して進め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複数顧問の配置により、交代で指導に当たることができ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環境を構築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会議時間の短縮、会議の削減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秋田　美紀男</cp:lastModifiedBy>
  <cp:lastPrinted>2024-05-13T09:34:17Z</cp:lastPrinted>
  <dcterms:modified xsi:type="dcterms:W3CDTF">2024-05-14T02:13:00Z</dcterms:modified>
  <cp:revision>983</cp:revision>
  <dc:subject/>
  <dc:title>スライド 1</dc:title>
</cp:coreProperties>
</file>